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10: Differential electrode reco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C response of CS 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easing the gain-BW (through casca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/differential mod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Hz, correlated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-mode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-mode to differential mode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spect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3"/>
          <p:cNvGrpSpPr/>
          <p:nvPr/>
        </p:nvGrpSpPr>
        <p:grpSpPr>
          <a:xfrm>
            <a:off x="990720" y="1447920"/>
            <a:ext cx="6933960" cy="4343400"/>
            <a:chOff x="990720" y="1447920"/>
            <a:chExt cx="6933960" cy="43434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69339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ounded Rectangle 5"/>
            <p:cNvSpPr/>
            <p:nvPr/>
          </p:nvSpPr>
          <p:spPr>
            <a:xfrm>
              <a:off x="6969240" y="2533680"/>
              <a:ext cx="636480" cy="1447560"/>
            </a:xfrm>
            <a:custGeom>
              <a:avLst/>
              <a:gdLst>
                <a:gd name="textAreaLeft" fmla="*/ 30960 w 636480"/>
                <a:gd name="textAreaRight" fmla="*/ 605520 w 636480"/>
                <a:gd name="textAreaTop" fmla="*/ 30960 h 1447560"/>
                <a:gd name="textAreaBottom" fmla="*/ 1416600 h 1447560"/>
              </a:gdLst>
              <a:ahLst/>
              <a:rect l="textAreaLeft" t="textAreaTop" r="textAreaRight" b="textAreaBottom"/>
              <a:pathLst>
                <a:path w="21600" h="49110">
                  <a:moveTo>
                    <a:pt x="3600" y="0"/>
                  </a:moveTo>
                  <a:arcTo wR="3600" hR="3600" stAng="16200000" swAng="-5400000"/>
                  <a:lnTo>
                    <a:pt x="0" y="45510"/>
                  </a:lnTo>
                  <a:arcTo wR="3600" hR="3600" stAng="10800000" swAng="-5400000"/>
                  <a:lnTo>
                    <a:pt x="18000" y="49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>
              <a:off x="6987240" y="29635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5715000" y="4495680"/>
            <a:ext cx="152280" cy="64152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643720" y="2048040"/>
            <a:ext cx="152280" cy="15048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s cou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5334120" cy="5604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182480" y="6248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tesy F. Yaziciog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ainsInterference.png"/>
          <p:cNvPicPr/>
          <p:nvPr/>
        </p:nvPicPr>
        <p:blipFill>
          <a:blip r:embed="rId2"/>
          <a:stretch/>
        </p:blipFill>
        <p:spPr>
          <a:xfrm>
            <a:off x="3325680" y="1447920"/>
            <a:ext cx="581832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424240" y="19051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Hz on E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ological common-mode (EMG/EO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EMGArtifacts.png"/>
          <p:cNvPicPr/>
          <p:nvPr/>
        </p:nvPicPr>
        <p:blipFill>
          <a:blip r:embed="rId1"/>
          <a:stretch/>
        </p:blipFill>
        <p:spPr>
          <a:xfrm>
            <a:off x="914400" y="1219320"/>
            <a:ext cx="4202280" cy="259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70520" y="91440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EG with EMG inter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22800" y="3809880"/>
            <a:ext cx="33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EG with EOG inter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EOGArtifacts.png"/>
          <p:cNvPicPr/>
          <p:nvPr/>
        </p:nvPicPr>
        <p:blipFill>
          <a:blip r:embed="rId2"/>
          <a:stretch/>
        </p:blipFill>
        <p:spPr>
          <a:xfrm>
            <a:off x="914400" y="4192560"/>
            <a:ext cx="4200480" cy="258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images.jpg"/>
          <p:cNvPicPr/>
          <p:nvPr/>
        </p:nvPicPr>
        <p:blipFill>
          <a:blip r:embed="rId3"/>
          <a:stretch/>
        </p:blipFill>
        <p:spPr>
          <a:xfrm>
            <a:off x="5791320" y="1295280"/>
            <a:ext cx="1752480" cy="232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eog_human.jpg"/>
          <p:cNvPicPr/>
          <p:nvPr/>
        </p:nvPicPr>
        <p:blipFill>
          <a:blip r:embed="rId4"/>
          <a:stretch/>
        </p:blipFill>
        <p:spPr>
          <a:xfrm>
            <a:off x="5486400" y="4648320"/>
            <a:ext cx="32767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ological common-mode (LF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fneng-02-012-g005.jpg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467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506360" y="6259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J.D. Rolst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de ma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4496040" cy="4338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719960" y="609300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. Denison, JSSC’0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514600" y="114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Frequency sweep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4 PtIr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3:11:39Z</dcterms:created>
  <dc:creator>Naveen Verma</dc:creator>
  <dc:description/>
  <dc:language>en-US</dc:language>
  <cp:lastModifiedBy>nverma</cp:lastModifiedBy>
  <dcterms:modified xsi:type="dcterms:W3CDTF">2011-03-16T15:33:35Z</dcterms:modified>
  <cp:revision>135</cp:revision>
  <dc:subject/>
  <dc:title>Slide 1</dc:title>
</cp:coreProperties>
</file>