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11: Other Amplifiers (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ommon/differential mode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ifferential ampl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mp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-drain: (voltage in, current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-gate: current in, voltage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de mat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4496040" cy="433836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4719960" y="6093000"/>
            <a:ext cx="193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T. Denison, JSSC’07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514600" y="1143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Frequency sweep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4 PtIr electr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3:11:39Z</dcterms:created>
  <dc:creator>Naveen Verma</dc:creator>
  <dc:description/>
  <dc:language>en-US</dc:language>
  <cp:lastModifiedBy>nverma</cp:lastModifiedBy>
  <dcterms:modified xsi:type="dcterms:W3CDTF">2011-03-10T19:23:34Z</dcterms:modified>
  <cp:revision>127</cp:revision>
  <dc:subject/>
  <dc:title>Slide 1</dc:title>
</cp:coreProperties>
</file>