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12: Other Amplifiers 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ther amp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Common-drain: (voltage in, current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Common-gate: current in, voltage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code amplif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output impedance, suppressed Mill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mi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0-12-21T19:22:21Z</dcterms:modified>
  <cp:revision>127</cp:revision>
  <dc:subject/>
  <dc:title>Slide 1</dc:title>
</cp:coreProperties>
</file>