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FC2A-A2DA-4003-9192-F539F6AE2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B115-4F42-4B21-A8BC-4C52FF72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3: Feedback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scode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urrent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ctive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and what does it requ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formula, need for gain,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elp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blem does it ra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feedback- Black’s formul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1" descr="_x0011_raz80322_0801.jpg                                              4A960060_x000b_Unix_hobbes                    B8AA4A96:"/>
          <p:cNvPicPr/>
          <p:nvPr/>
        </p:nvPicPr>
        <p:blipFill>
          <a:blip r:embed="rId1"/>
          <a:stretch/>
        </p:blipFill>
        <p:spPr>
          <a:xfrm>
            <a:off x="1654200" y="1405080"/>
            <a:ext cx="5907240" cy="215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2700360" y="4170240"/>
                <a:ext cx="428472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de no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feedback topolog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838080" y="1143000"/>
            <a:ext cx="7620120" cy="5338800"/>
            <a:chOff x="838080" y="1143000"/>
            <a:chExt cx="7620120" cy="5338800"/>
          </a:xfrm>
        </p:grpSpPr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 rot="16200000">
              <a:off x="1978560" y="2160"/>
              <a:ext cx="5338800" cy="76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4"/>
            <p:cNvSpPr/>
            <p:nvPr/>
          </p:nvSpPr>
          <p:spPr>
            <a:xfrm>
              <a:off x="1676160" y="3505320"/>
              <a:ext cx="2438280" cy="23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6095880" y="3429000"/>
              <a:ext cx="1493640" cy="333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5715000" y="3505320"/>
              <a:ext cx="4572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752480" y="6019920"/>
              <a:ext cx="2438280" cy="274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562720" y="5943600"/>
              <a:ext cx="1447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943600" y="5867640"/>
              <a:ext cx="228600" cy="152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6705720" y="5867640"/>
              <a:ext cx="228600" cy="152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7772400" y="6019920"/>
              <a:ext cx="304560" cy="152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13"/>
          <p:cNvSpPr/>
          <p:nvPr/>
        </p:nvSpPr>
        <p:spPr>
          <a:xfrm>
            <a:off x="6840000" y="647712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tesy R. Sarpesh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de plot picture of st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304920" y="1905120"/>
            <a:ext cx="8539200" cy="3581280"/>
            <a:chOff x="304920" y="1905120"/>
            <a:chExt cx="8539200" cy="3581280"/>
          </a:xfrm>
        </p:grpSpPr>
        <p:pic>
          <p:nvPicPr>
            <p:cNvPr id="64" name="Picture 3" descr="raz80322_1002.jpg"/>
            <p:cNvPicPr/>
            <p:nvPr/>
          </p:nvPicPr>
          <p:blipFill>
            <a:blip r:embed="rId1"/>
            <a:stretch/>
          </p:blipFill>
          <p:spPr>
            <a:xfrm>
              <a:off x="304920" y="1905120"/>
              <a:ext cx="85392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4"/>
            <p:cNvSpPr/>
            <p:nvPr/>
          </p:nvSpPr>
          <p:spPr>
            <a:xfrm>
              <a:off x="2057400" y="5257800"/>
              <a:ext cx="4572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mar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raz80322_1010.jpg"/>
          <p:cNvPicPr/>
          <p:nvPr/>
        </p:nvPicPr>
        <p:blipFill>
          <a:blip r:embed="rId1"/>
          <a:stretch/>
        </p:blipFill>
        <p:spPr>
          <a:xfrm>
            <a:off x="1905120" y="1295280"/>
            <a:ext cx="5175000" cy="4343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4494960" y="548640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.M. = -135 – (-180) = 45 d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-pol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az80322_1008.jpg"/>
          <p:cNvPicPr/>
          <p:nvPr/>
        </p:nvPicPr>
        <p:blipFill>
          <a:blip r:embed="rId1"/>
          <a:stretch/>
        </p:blipFill>
        <p:spPr>
          <a:xfrm>
            <a:off x="1676520" y="1371600"/>
            <a:ext cx="5732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ising the DC gain (w/o reducing B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raz80322_1006.jpg"/>
          <p:cNvPicPr/>
          <p:nvPr/>
        </p:nvPicPr>
        <p:blipFill>
          <a:blip r:embed="rId1"/>
          <a:stretch/>
        </p:blipFill>
        <p:spPr>
          <a:xfrm>
            <a:off x="1371600" y="1447920"/>
            <a:ext cx="5791320" cy="455112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5"/>
          <p:cNvSpPr/>
          <p:nvPr/>
        </p:nvSpPr>
        <p:spPr>
          <a:xfrm>
            <a:off x="5029200" y="3200400"/>
            <a:ext cx="0" cy="2438280"/>
          </a:xfrm>
          <a:prstGeom prst="line">
            <a:avLst/>
          </a:prstGeom>
          <a:ln w="316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7"/>
          <p:cNvSpPr/>
          <p:nvPr/>
        </p:nvSpPr>
        <p:spPr>
          <a:xfrm>
            <a:off x="4678200" y="3184560"/>
            <a:ext cx="0" cy="2438280"/>
          </a:xfrm>
          <a:prstGeom prst="line">
            <a:avLst/>
          </a:prstGeom>
          <a:ln w="316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>
            <a:off x="4495680" y="4876920"/>
            <a:ext cx="106776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5486400" y="4732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orse phase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12-15T12:56:53Z</dcterms:modified>
  <cp:revision>135</cp:revision>
  <dc:subject/>
  <dc:title>Slide 1</dc:title>
</cp:coreProperties>
</file>