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7"/>
          <p:cNvSpPr/>
          <p:nvPr/>
        </p:nvSpPr>
        <p:spPr>
          <a:xfrm>
            <a:off x="304920" y="914400"/>
            <a:ext cx="8458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cture 16: Noise (II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Where does noise come fr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How do we characterize and represent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TI system analysis of no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analysis, superposition of uncorrelated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ise in circu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D and variance through transfer-function analy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ise through LTI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Box 12"/>
          <p:cNvSpPr/>
          <p:nvPr/>
        </p:nvSpPr>
        <p:spPr>
          <a:xfrm>
            <a:off x="129960" y="1090440"/>
            <a:ext cx="9047520" cy="42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E{y(t)y(t+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E{y(t) ∫ h(v1) x(t+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onvolution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∫ h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{y(t) x(t+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 d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∫ h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{∫ h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x(t-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(t+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d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onvolution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∫ h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∫ h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{x(t-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x(t+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d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∫ h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∫ h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autocorrelation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h(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* [∫ h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de-convolution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h(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* [∫ h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-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autocorrelation time reversal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h(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* h(-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*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-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de-convolution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h(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* h(-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*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autocorrelation time reversal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Down Arrow 13"/>
          <p:cNvSpPr/>
          <p:nvPr/>
        </p:nvSpPr>
        <p:spPr>
          <a:xfrm>
            <a:off x="4267080" y="4952880"/>
            <a:ext cx="484200" cy="762120"/>
          </a:xfrm>
          <a:prstGeom prst="downArrow">
            <a:avLst>
              <a:gd name="adj1" fmla="val 50000"/>
              <a:gd name="adj2" fmla="val 50054"/>
            </a:avLst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4"/>
          <p:cNvSpPr/>
          <p:nvPr/>
        </p:nvSpPr>
        <p:spPr>
          <a:xfrm>
            <a:off x="4731120" y="502920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00000"/>
                </a:solidFill>
                <a:uFillTx/>
                <a:latin typeface="Arial"/>
              </a:rPr>
              <a:t>Fourier trans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5"/>
          <p:cNvSpPr/>
          <p:nvPr/>
        </p:nvSpPr>
        <p:spPr>
          <a:xfrm>
            <a:off x="3018960" y="5715000"/>
            <a:ext cx="3322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</a:t>
            </a:r>
            <a:r>
              <a:rPr b="1" lang="en-US" sz="24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yy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j</a:t>
            </a:r>
            <a:r>
              <a:rPr b="1" lang="el-GR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ω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 = |H(j</a:t>
            </a:r>
            <a:r>
              <a:rPr b="1" lang="el-GR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ω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|</a:t>
            </a:r>
            <a:r>
              <a:rPr b="1" lang="en-US" sz="24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S</a:t>
            </a:r>
            <a:r>
              <a:rPr b="1" lang="en-US" sz="24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xx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j</a:t>
            </a:r>
            <a:r>
              <a:rPr b="1" lang="el-GR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ω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6"/>
          <p:cNvSpPr/>
          <p:nvPr/>
        </p:nvSpPr>
        <p:spPr>
          <a:xfrm>
            <a:off x="868320" y="6324480"/>
            <a:ext cx="773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utput PSD is shaped by magnitude squared transfer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ise through LTI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raz80322_0714.jpg"/>
          <p:cNvPicPr/>
          <p:nvPr/>
        </p:nvPicPr>
        <p:blipFill>
          <a:blip r:embed="rId1"/>
          <a:stretch/>
        </p:blipFill>
        <p:spPr>
          <a:xfrm>
            <a:off x="609480" y="3352680"/>
            <a:ext cx="7766280" cy="1524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raz80322_0713.jpg"/>
          <p:cNvPicPr/>
          <p:nvPr/>
        </p:nvPicPr>
        <p:blipFill>
          <a:blip r:embed="rId2"/>
          <a:stretch/>
        </p:blipFill>
        <p:spPr>
          <a:xfrm>
            <a:off x="1600200" y="1523880"/>
            <a:ext cx="537840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/>
          <p:cNvSpPr/>
          <p:nvPr/>
        </p:nvSpPr>
        <p:spPr>
          <a:xfrm>
            <a:off x="792360" y="5334120"/>
            <a:ext cx="773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Arial"/>
              </a:rPr>
              <a:t>Output PSD is shaped by magnitude squared transfer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13:11:39Z</dcterms:created>
  <dc:creator>Naveen Verma</dc:creator>
  <dc:description/>
  <dc:language>en-US</dc:language>
  <cp:lastModifiedBy>nverma</cp:lastModifiedBy>
  <dcterms:modified xsi:type="dcterms:W3CDTF">2011-03-22T17:11:21Z</dcterms:modified>
  <cp:revision>140</cp:revision>
  <dc:subject/>
  <dc:title>Slide 1</dc:title>
</cp:coreProperties>
</file>