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17: Digital versus analo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LTI system analysis of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Noise in circ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ision-bandwidth-power (PBP) trade-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ion and bandwidth represent amount of information content in a signal…they cost power to achie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P trade-offs in digital vs. an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cost of precision scales according to different trend 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power consum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7"/>
          <p:cNvSpPr/>
          <p:nvPr/>
        </p:nvSpPr>
        <p:spPr>
          <a:xfrm>
            <a:off x="76320" y="126684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Dynamic Power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73840" y="1724040"/>
            <a:ext cx="865836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ing pow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charging and discharging of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-circuit pow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PMOS and NMOS simulta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on from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r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0"/>
          <p:cNvSpPr/>
          <p:nvPr/>
        </p:nvSpPr>
        <p:spPr>
          <a:xfrm>
            <a:off x="1522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2)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Static Power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1"/>
          <p:cNvSpPr/>
          <p:nvPr/>
        </p:nvSpPr>
        <p:spPr>
          <a:xfrm>
            <a:off x="671760" y="3733920"/>
            <a:ext cx="8333640" cy="22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-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akag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MOSFET conduction 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arge from the channel region can cro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ate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ction leakag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d biased diodes (e.g., in S/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 cur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og/digital power &amp; area sca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295880" cy="3247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4495680" y="2057400"/>
            <a:ext cx="4191120" cy="329076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6436440" y="617220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tesy R. Sarpesh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3:11:39Z</dcterms:created>
  <dc:creator>Naveen Verma</dc:creator>
  <dc:description/>
  <dc:language>en-US</dc:language>
  <cp:lastModifiedBy>nverma</cp:lastModifiedBy>
  <dcterms:modified xsi:type="dcterms:W3CDTF">2011-04-01T17:50:03Z</dcterms:modified>
  <cp:revision>142</cp:revision>
  <dc:subject/>
  <dc:title>Slide 1</dc:title>
</cp:coreProperties>
</file>