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9: Combinational Gates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haracteristics of a digital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rmation of CMO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en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gates are non-linear; we need to new way to linearize (SSM does not suffi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nergy: energy during node voltag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nergy: energy even without nod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Power Consum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90400" y="1461960"/>
            <a:ext cx="79632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3:01:10Z</dcterms:modified>
  <cp:revision>148</cp:revision>
  <dc:subject/>
  <dc:title>Slide 1</dc:title>
</cp:coreProperties>
</file>