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29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2: Signals and compu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Course log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Biomedical systems (high-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s (analog, digital, CT, 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FET characteristics allow us to do computation, improve S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is a key to robust operation of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units and local-field potent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570640" y="1741320"/>
            <a:ext cx="3344760" cy="367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743200" cy="2946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3124080" y="114300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f many neurons couple to the electrode, then their aggregate behavior is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438880" y="14400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atial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6477120" y="57261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. Schwartz, Neuron’0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fnins-02-037-g001.jpg"/>
          <p:cNvPicPr/>
          <p:nvPr/>
        </p:nvPicPr>
        <p:blipFill>
          <a:blip r:embed="rId3"/>
          <a:stretch/>
        </p:blipFill>
        <p:spPr>
          <a:xfrm>
            <a:off x="152280" y="4267080"/>
            <a:ext cx="512604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152280" y="42670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Berens’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2133720" y="5181480"/>
            <a:ext cx="3200400" cy="1676520"/>
            <a:chOff x="2133720" y="5181480"/>
            <a:chExt cx="3200400" cy="1676520"/>
          </a:xfrm>
        </p:grpSpPr>
        <p:pic>
          <p:nvPicPr>
            <p:cNvPr id="105" name="Picture 5" descr=""/>
            <p:cNvPicPr/>
            <p:nvPr/>
          </p:nvPicPr>
          <p:blipFill>
            <a:blip r:embed="rId4"/>
            <a:stretch/>
          </p:blipFill>
          <p:spPr>
            <a:xfrm>
              <a:off x="2608560" y="5181480"/>
              <a:ext cx="27255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"/>
            <p:cNvPicPr/>
            <p:nvPr/>
          </p:nvPicPr>
          <p:blipFill>
            <a:blip r:embed="rId5"/>
            <a:stretch/>
          </p:blipFill>
          <p:spPr>
            <a:xfrm>
              <a:off x="2133720" y="5211000"/>
              <a:ext cx="546120" cy="151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content of neural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-76320" y="1828800"/>
            <a:ext cx="3200400" cy="3305160"/>
            <a:chOff x="-76320" y="1828800"/>
            <a:chExt cx="3200400" cy="330516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-76320" y="1828800"/>
              <a:ext cx="32004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4"/>
            <p:cNvSpPr/>
            <p:nvPr/>
          </p:nvSpPr>
          <p:spPr>
            <a:xfrm>
              <a:off x="-76320" y="1828800"/>
              <a:ext cx="344160" cy="42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-76320" y="3182760"/>
              <a:ext cx="344160" cy="42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322800" y="1676520"/>
            <a:ext cx="5744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 electrodes vs. penetra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aser_neuro_x220.jpg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31924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544680" y="1219320"/>
            <a:ext cx="274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cortic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ECo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5413asdf.jpg"/>
          <p:cNvPicPr/>
          <p:nvPr/>
        </p:nvPicPr>
        <p:blipFill>
          <a:blip r:embed="rId2"/>
          <a:stretch/>
        </p:blipFill>
        <p:spPr>
          <a:xfrm>
            <a:off x="0" y="4495680"/>
            <a:ext cx="2362320" cy="984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3367080" y="1219320"/>
            <a:ext cx="315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encepha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EE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electrodesales_1965_338972"/>
          <p:cNvPicPr/>
          <p:nvPr/>
        </p:nvPicPr>
        <p:blipFill>
          <a:blip r:embed="rId3"/>
          <a:stretch/>
        </p:blipFill>
        <p:spPr>
          <a:xfrm>
            <a:off x="3657600" y="1981080"/>
            <a:ext cx="2562120" cy="2210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3711600" y="3581280"/>
            <a:ext cx="5300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(transduce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3352680" y="1143000"/>
                <a:ext cx="24386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↔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5"/>
          <p:cNvSpPr/>
          <p:nvPr/>
        </p:nvSpPr>
        <p:spPr>
          <a:xfrm>
            <a:off x="2438280" y="838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Ion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668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ilver"/>
          <p:cNvPicPr/>
          <p:nvPr/>
        </p:nvPicPr>
        <p:blipFill>
          <a:blip r:embed="rId1"/>
          <a:stretch/>
        </p:blipFill>
        <p:spPr>
          <a:xfrm>
            <a:off x="1676520" y="3824280"/>
            <a:ext cx="289548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5791320" y="4583160"/>
                <a:ext cx="16761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5486400" y="4964040"/>
                <a:ext cx="2286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AgCl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6"/>
          <p:cNvSpPr/>
          <p:nvPr/>
        </p:nvSpPr>
        <p:spPr>
          <a:xfrm>
            <a:off x="838080" y="5881680"/>
            <a:ext cx="99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0" y="534816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181480" y="37479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ion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542160" y="3214800"/>
            <a:ext cx="31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.g. Ag/AgCl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9"/>
          <p:cNvGrpSpPr/>
          <p:nvPr/>
        </p:nvGrpSpPr>
        <p:grpSpPr>
          <a:xfrm>
            <a:off x="3210480" y="2286000"/>
            <a:ext cx="2030040" cy="337320"/>
            <a:chOff x="3210480" y="2286000"/>
            <a:chExt cx="2030040" cy="337320"/>
          </a:xfrm>
        </p:grpSpPr>
        <p:sp>
          <p:nvSpPr>
            <p:cNvPr id="133" name="TextBox 7"/>
            <p:cNvSpPr/>
            <p:nvPr/>
          </p:nvSpPr>
          <p:spPr>
            <a:xfrm>
              <a:off x="3210480" y="228600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(oxida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Straight Arrow Connector 21"/>
            <p:cNvCxnSpPr/>
            <p:nvPr/>
          </p:nvCxnSpPr>
          <p:spPr>
            <a:xfrm>
              <a:off x="4402080" y="2445840"/>
              <a:ext cx="83880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triangle" w="med"/>
            </a:ln>
          </p:spPr>
        </p:cxnSp>
      </p:grpSp>
      <p:sp>
        <p:nvSpPr>
          <p:cNvPr id="135" name="TextBox 26"/>
          <p:cNvSpPr/>
          <p:nvPr/>
        </p:nvSpPr>
        <p:spPr>
          <a:xfrm>
            <a:off x="4124880" y="25909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red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27"/>
          <p:cNvCxnSpPr/>
          <p:nvPr/>
        </p:nvCxnSpPr>
        <p:spPr>
          <a:xfrm flipH="1" flipV="1">
            <a:off x="3212640" y="2795400"/>
            <a:ext cx="91512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ge double layer, half-cell potent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doub_layer"/>
          <p:cNvPicPr/>
          <p:nvPr/>
        </p:nvPicPr>
        <p:blipFill>
          <a:blip r:embed="rId1"/>
          <a:stretch/>
        </p:blipFill>
        <p:spPr>
          <a:xfrm>
            <a:off x="152280" y="1905120"/>
            <a:ext cx="565812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389600" y="14479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867280" y="9907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Oxidation/reduction leads to a charge double layer and half cell 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8"/>
          <p:cNvCxnSpPr/>
          <p:nvPr/>
        </p:nvCxnSpPr>
        <p:spPr>
          <a:xfrm>
            <a:off x="1143000" y="5486400"/>
            <a:ext cx="32774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2" name="TextBox 9"/>
          <p:cNvSpPr/>
          <p:nvPr/>
        </p:nvSpPr>
        <p:spPr>
          <a:xfrm>
            <a:off x="380160" y="510552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Voltage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table"/>
          <p:cNvPicPr/>
          <p:nvPr/>
        </p:nvPicPr>
        <p:blipFill>
          <a:blip r:embed="rId2"/>
          <a:stretch/>
        </p:blipFill>
        <p:spPr>
          <a:xfrm>
            <a:off x="5562720" y="2133720"/>
            <a:ext cx="3581280" cy="4686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1"/>
          <p:cNvSpPr/>
          <p:nvPr/>
        </p:nvSpPr>
        <p:spPr>
          <a:xfrm>
            <a:off x="5867280" y="4800600"/>
            <a:ext cx="31244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5943600"/>
            <a:ext cx="31244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777560" y="44197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reference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equivalent"/>
          <p:cNvPicPr/>
          <p:nvPr/>
        </p:nvPicPr>
        <p:blipFill>
          <a:blip r:embed="rId1"/>
          <a:stretch/>
        </p:blipFill>
        <p:spPr>
          <a:xfrm>
            <a:off x="1905120" y="1828800"/>
            <a:ext cx="4952880" cy="1752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752480" y="4648320"/>
            <a:ext cx="5486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: capacitance of electrode-electrolyt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: resistance of electrode-electrolyt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istance of electrode lead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cell potential for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419720" y="914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Polarizabl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(no direct current flow, only displacement current through charge double lay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7"/>
          <p:cNvCxnSpPr/>
          <p:nvPr/>
        </p:nvCxnSpPr>
        <p:spPr>
          <a:xfrm flipH="1">
            <a:off x="4343040" y="1295280"/>
            <a:ext cx="2160" cy="6105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52" name="Straight Arrow Connector 8"/>
          <p:cNvCxnSpPr/>
          <p:nvPr/>
        </p:nvCxnSpPr>
        <p:spPr>
          <a:xfrm flipH="1" flipV="1">
            <a:off x="4266360" y="3428280"/>
            <a:ext cx="2520" cy="68652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53" name="TextBox 10"/>
          <p:cNvSpPr/>
          <p:nvPr/>
        </p:nvSpPr>
        <p:spPr>
          <a:xfrm>
            <a:off x="4343400" y="3657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Non-polarizabl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(direct current flow through ions and electrons across electrode-electrolyte interf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2362320" y="6095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n practice, electrodes have both a polarizing and a non-polarizi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myograph (EM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muscle%20configuration.gif"/>
          <p:cNvPicPr/>
          <p:nvPr/>
        </p:nvPicPr>
        <p:blipFill>
          <a:blip r:embed="rId1"/>
          <a:stretch/>
        </p:blipFill>
        <p:spPr>
          <a:xfrm>
            <a:off x="1752480" y="1066680"/>
            <a:ext cx="5046840" cy="381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slika02.gif"/>
          <p:cNvPicPr/>
          <p:nvPr/>
        </p:nvPicPr>
        <p:blipFill>
          <a:blip r:embed="rId2"/>
          <a:stretch/>
        </p:blipFill>
        <p:spPr>
          <a:xfrm>
            <a:off x="1371600" y="5048280"/>
            <a:ext cx="5000760" cy="1809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6553080" y="52578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otor unit action potential (also involves ion cha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7"/>
          <p:cNvCxnSpPr/>
          <p:nvPr/>
        </p:nvCxnSpPr>
        <p:spPr>
          <a:xfrm flipH="1" flipV="1">
            <a:off x="5257440" y="5562360"/>
            <a:ext cx="129600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cardiogram (EC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sinusecg-300x296.png"/>
          <p:cNvPicPr/>
          <p:nvPr/>
        </p:nvPicPr>
        <p:blipFill>
          <a:blip r:embed="rId1"/>
          <a:stretch/>
        </p:blipFill>
        <p:spPr>
          <a:xfrm>
            <a:off x="5105520" y="1676520"/>
            <a:ext cx="3771720" cy="3720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fig9_conduct.jpg"/>
          <p:cNvPicPr/>
          <p:nvPr/>
        </p:nvPicPr>
        <p:blipFill>
          <a:blip r:embed="rId2"/>
          <a:stretch/>
        </p:blipFill>
        <p:spPr>
          <a:xfrm>
            <a:off x="228600" y="1905120"/>
            <a:ext cx="453060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315720" y="13669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ac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 flipH="1">
            <a:off x="1369800" y="1753920"/>
            <a:ext cx="3600" cy="11437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65" name="TextBox 8"/>
          <p:cNvSpPr/>
          <p:nvPr/>
        </p:nvSpPr>
        <p:spPr>
          <a:xfrm>
            <a:off x="3962520" y="2438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trial de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9"/>
          <p:cNvCxnSpPr/>
          <p:nvPr/>
        </p:nvCxnSpPr>
        <p:spPr>
          <a:xfrm flipH="1">
            <a:off x="6017400" y="2744280"/>
            <a:ext cx="3960" cy="762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67" name="TextBox 11"/>
          <p:cNvSpPr/>
          <p:nvPr/>
        </p:nvSpPr>
        <p:spPr>
          <a:xfrm>
            <a:off x="487692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Ventricular de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12"/>
          <p:cNvCxnSpPr/>
          <p:nvPr/>
        </p:nvCxnSpPr>
        <p:spPr>
          <a:xfrm flipH="1" flipV="1">
            <a:off x="6931800" y="4647960"/>
            <a:ext cx="2520" cy="13723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69" name="TextBox 15"/>
          <p:cNvSpPr/>
          <p:nvPr/>
        </p:nvSpPr>
        <p:spPr>
          <a:xfrm>
            <a:off x="708660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Ventricular re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16"/>
          <p:cNvCxnSpPr/>
          <p:nvPr/>
        </p:nvCxnSpPr>
        <p:spPr>
          <a:xfrm flipH="1">
            <a:off x="8076960" y="2742840"/>
            <a:ext cx="2160" cy="762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0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877080" cy="5362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1"/>
          <p:cNvSpPr/>
          <p:nvPr/>
        </p:nvSpPr>
        <p:spPr>
          <a:xfrm>
            <a:off x="7178400" y="651996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rtesy Y. Tsivi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2"/>
          <p:cNvSpPr/>
          <p:nvPr/>
        </p:nvSpPr>
        <p:spPr>
          <a:xfrm>
            <a:off x="2362320" y="4191120"/>
            <a:ext cx="2590560" cy="20574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2495160" y="4495680"/>
            <a:ext cx="244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rare but m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e bene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og, discrete-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69960" y="1523880"/>
            <a:ext cx="589752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49480" y="99072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witched-Capacitor Circu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 rot="5550600">
            <a:off x="2881440" y="1584000"/>
            <a:ext cx="2743200" cy="7477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248040" y="3957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actual implementatio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, continuous-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998760" y="408132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rtesy Y. Tsivi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209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2362320" cy="825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858000" y="5638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zation error can have wide BW and wi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i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uring samp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5897520" y="4686480"/>
            <a:ext cx="152280" cy="2286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781680" y="46483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These are high-frequency transi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6095160" y="4800240"/>
            <a:ext cx="76284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" name="Rectangle 13"/>
          <p:cNvSpPr/>
          <p:nvPr/>
        </p:nvSpPr>
        <p:spPr>
          <a:xfrm>
            <a:off x="5715000" y="5791320"/>
            <a:ext cx="762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e cell signa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2362320" cy="260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298296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2030760" y="5800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of R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5"/>
          <p:cNvCxnSpPr/>
          <p:nvPr/>
        </p:nvCxnSpPr>
        <p:spPr>
          <a:xfrm flipV="1">
            <a:off x="2092680" y="5334840"/>
            <a:ext cx="2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16"/>
          <p:cNvSpPr/>
          <p:nvPr/>
        </p:nvSpPr>
        <p:spPr>
          <a:xfrm>
            <a:off x="2144160" y="43434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elin Sh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7"/>
          <p:cNvCxnSpPr/>
          <p:nvPr/>
        </p:nvCxnSpPr>
        <p:spPr>
          <a:xfrm>
            <a:off x="2286000" y="4647960"/>
            <a:ext cx="21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9"/>
          <p:cNvSpPr/>
          <p:nvPr/>
        </p:nvSpPr>
        <p:spPr>
          <a:xfrm>
            <a:off x="2875320" y="4648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0"/>
          <p:cNvCxnSpPr/>
          <p:nvPr/>
        </p:nvCxnSpPr>
        <p:spPr>
          <a:xfrm>
            <a:off x="2894400" y="4876920"/>
            <a:ext cx="252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4191120" y="1600200"/>
            <a:ext cx="447804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4"/>
          <p:cNvSpPr/>
          <p:nvPr/>
        </p:nvSpPr>
        <p:spPr>
          <a:xfrm>
            <a:off x="4114800" y="1523880"/>
            <a:ext cx="4495680" cy="1676520"/>
          </a:xfrm>
          <a:prstGeom prst="rect">
            <a:avLst/>
          </a:prstGeom>
          <a:noFill/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6"/>
          <p:cNvSpPr/>
          <p:nvPr/>
        </p:nvSpPr>
        <p:spPr>
          <a:xfrm flipV="1">
            <a:off x="2971800" y="3200040"/>
            <a:ext cx="1295280" cy="2057400"/>
          </a:xfrm>
          <a:prstGeom prst="line">
            <a:avLst/>
          </a:prstGeom>
          <a:ln w="3168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4657680" y="35812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Action Poten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1150920" y="6172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30"/>
          <p:cNvCxnSpPr/>
          <p:nvPr/>
        </p:nvCxnSpPr>
        <p:spPr>
          <a:xfrm flipV="1">
            <a:off x="1219320" y="5333400"/>
            <a:ext cx="216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41120" y="1219320"/>
            <a:ext cx="298296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3438000" y="1382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Neuron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038400" y="1905120"/>
            <a:ext cx="6029280" cy="434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6705720" y="1066680"/>
            <a:ext cx="22096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in 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 rot="60000">
            <a:off x="499680" y="1135080"/>
            <a:ext cx="81392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mentatio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10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1348200" y="11430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Extracellular re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163480" y="1143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Patch-clamp re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UTAH-array_bw-small.gif"/>
          <p:cNvPicPr/>
          <p:nvPr/>
        </p:nvPicPr>
        <p:blipFill>
          <a:blip r:embed="rId2"/>
          <a:stretch/>
        </p:blipFill>
        <p:spPr>
          <a:xfrm>
            <a:off x="109440" y="2971800"/>
            <a:ext cx="1490760" cy="1066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7388280" y="2895480"/>
            <a:ext cx="1603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ke s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17680" cy="2595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5788440" y="648828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. Segev, M. Berr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152280" y="3733920"/>
            <a:ext cx="8001000" cy="2743200"/>
            <a:chOff x="152280" y="3733920"/>
            <a:chExt cx="8001000" cy="2743200"/>
          </a:xfrm>
        </p:grpSpPr>
        <p:pic>
          <p:nvPicPr>
            <p:cNvPr id="92" name="Picture 2" descr=""/>
            <p:cNvPicPr/>
            <p:nvPr/>
          </p:nvPicPr>
          <p:blipFill>
            <a:blip r:embed="rId2"/>
            <a:stretch/>
          </p:blipFill>
          <p:spPr>
            <a:xfrm>
              <a:off x="407520" y="3819600"/>
              <a:ext cx="7745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8"/>
            <p:cNvSpPr/>
            <p:nvPr/>
          </p:nvSpPr>
          <p:spPr>
            <a:xfrm>
              <a:off x="4152960" y="3733920"/>
              <a:ext cx="52164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ight Arrow 9"/>
            <p:cNvSpPr/>
            <p:nvPr/>
          </p:nvSpPr>
          <p:spPr>
            <a:xfrm>
              <a:off x="4239720" y="4848480"/>
              <a:ext cx="782640" cy="545040"/>
            </a:xfrm>
            <a:prstGeom prst="rightArrow">
              <a:avLst>
                <a:gd name="adj1" fmla="val 50000"/>
                <a:gd name="adj2" fmla="val 50736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52280" y="3733920"/>
              <a:ext cx="695520" cy="51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2-03T19:40:08Z</dcterms:modified>
  <cp:revision>148</cp:revision>
  <dc:subject/>
  <dc:title>Slide 1</dc:title>
</cp:coreProperties>
</file>