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3: The MOSFET 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Amplifiers give us gain for SNR,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Freq. characteristics help for instrumentation and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conductors provide some useful in-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use these for compu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MOSFET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-offs: energy sources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ity of possible st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1981440" cy="2292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85880" y="990720"/>
            <a:ext cx="310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ensity of states function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(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163332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895480" y="2514600"/>
            <a:ext cx="457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61280" y="144792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00000"/>
                </a:solidFill>
                <a:uFillTx/>
                <a:latin typeface="Arial"/>
              </a:rPr>
              <a:t>Intrins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235080" y="38098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00000"/>
                </a:solidFill>
                <a:uFillTx/>
                <a:latin typeface="Arial"/>
              </a:rPr>
              <a:t>Dop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5327640" y="1371600"/>
            <a:ext cx="2749680" cy="4648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4982040" y="990720"/>
            <a:ext cx="37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ermi-Dirac distribution function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(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4"/>
          <a:stretch/>
        </p:blipFill>
        <p:spPr>
          <a:xfrm>
            <a:off x="2895480" y="5867280"/>
            <a:ext cx="3429000" cy="695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2"/>
          <p:cNvSpPr/>
          <p:nvPr/>
        </p:nvSpPr>
        <p:spPr>
          <a:xfrm>
            <a:off x="324720" y="6095880"/>
            <a:ext cx="27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00000"/>
                </a:solidFill>
                <a:uFillTx/>
                <a:latin typeface="Arial"/>
              </a:rPr>
              <a:t>E.g., Number of electr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2023560" y="6550200"/>
            <a:ext cx="307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Probability of electron at energy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5718600" y="6550200"/>
            <a:ext cx="278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Density of states available at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16"/>
          <p:cNvCxnSpPr/>
          <p:nvPr/>
        </p:nvCxnSpPr>
        <p:spPr>
          <a:xfrm flipV="1">
            <a:off x="5029200" y="6401520"/>
            <a:ext cx="2160" cy="3042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4" name="Left Brace 17"/>
          <p:cNvSpPr/>
          <p:nvPr/>
        </p:nvSpPr>
        <p:spPr>
          <a:xfrm rot="16200000">
            <a:off x="5684760" y="5932440"/>
            <a:ext cx="79200" cy="914400"/>
          </a:xfrm>
          <a:custGeom>
            <a:avLst/>
            <a:gdLst>
              <a:gd name="textAreaLeft" fmla="*/ 50760 w 79200"/>
              <a:gd name="textAreaRight" fmla="*/ 79560 w 79200"/>
              <a:gd name="textAreaTop" fmla="*/ 1800 h 914400"/>
              <a:gd name="textAreaBottom" fmla="*/ 912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6"/>
                </a:cubicBezTo>
                <a:lnTo>
                  <a:pt x="10800" y="10644"/>
                </a:lnTo>
                <a:cubicBezTo>
                  <a:pt x="10800" y="10722"/>
                  <a:pt x="5400" y="10800"/>
                  <a:pt x="0" y="10800"/>
                </a:cubicBezTo>
                <a:cubicBezTo>
                  <a:pt x="5400" y="10800"/>
                  <a:pt x="10800" y="10878"/>
                  <a:pt x="10800" y="10956"/>
                </a:cubicBezTo>
                <a:lnTo>
                  <a:pt x="10800" y="21444"/>
                </a:lnTo>
                <a:cubicBezTo>
                  <a:pt x="10800" y="2152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18"/>
          <p:cNvCxnSpPr/>
          <p:nvPr/>
        </p:nvCxnSpPr>
        <p:spPr>
          <a:xfrm flipV="1">
            <a:off x="5721840" y="6465240"/>
            <a:ext cx="3960" cy="2293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6" name="TextBox 20"/>
          <p:cNvSpPr/>
          <p:nvPr/>
        </p:nvSpPr>
        <p:spPr>
          <a:xfrm>
            <a:off x="8175240" y="5334120"/>
            <a:ext cx="9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urtes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. Pulfr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ilding a MOSF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raz80322_0202.jpg"/>
          <p:cNvPicPr/>
          <p:nvPr/>
        </p:nvPicPr>
        <p:blipFill>
          <a:blip r:embed="rId1"/>
          <a:stretch/>
        </p:blipFill>
        <p:spPr>
          <a:xfrm>
            <a:off x="1219320" y="1338120"/>
            <a:ext cx="6705360" cy="239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762120" y="4495680"/>
            <a:ext cx="772452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459360" y="42670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00000"/>
                </a:solidFill>
                <a:uFillTx/>
                <a:latin typeface="Arial"/>
              </a:rPr>
              <a:t>4 Termin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shold Volt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2692440" cy="1282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152280" y="2692440"/>
            <a:ext cx="2235240" cy="1320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 flipH="1">
            <a:off x="304920" y="213372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Sub-V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2895480" y="2768760"/>
            <a:ext cx="2349720" cy="126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 flipH="1">
            <a:off x="5562720" y="2921040"/>
            <a:ext cx="358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field (from gate) pushes away holes and exposes ions (i.e., E-field penetrates substr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auses voltage drop on Cd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3048120" y="4952880"/>
            <a:ext cx="2209680" cy="1270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9"/>
          <p:cNvSpPr/>
          <p:nvPr/>
        </p:nvSpPr>
        <p:spPr>
          <a:xfrm flipH="1">
            <a:off x="227880" y="41911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Above V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228600" y="4927680"/>
            <a:ext cx="2235240" cy="132084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5"/>
          <p:cNvGrpSpPr/>
          <p:nvPr/>
        </p:nvGrpSpPr>
        <p:grpSpPr>
          <a:xfrm>
            <a:off x="1219320" y="5638320"/>
            <a:ext cx="304560" cy="305280"/>
            <a:chOff x="1219320" y="5638320"/>
            <a:chExt cx="304560" cy="305280"/>
          </a:xfrm>
        </p:grpSpPr>
        <p:sp>
          <p:nvSpPr>
            <p:cNvPr id="71" name="Straight Connector 12"/>
            <p:cNvSpPr/>
            <p:nvPr/>
          </p:nvSpPr>
          <p:spPr>
            <a:xfrm flipV="1">
              <a:off x="1219320" y="5638320"/>
              <a:ext cx="304560" cy="3049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traight Connector 13"/>
            <p:cNvSpPr/>
            <p:nvPr/>
          </p:nvSpPr>
          <p:spPr>
            <a:xfrm>
              <a:off x="1219320" y="5638680"/>
              <a:ext cx="304560" cy="3049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16"/>
          <p:cNvSpPr/>
          <p:nvPr/>
        </p:nvSpPr>
        <p:spPr>
          <a:xfrm flipH="1">
            <a:off x="5562720" y="4876920"/>
            <a:ext cx="358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rate voltage drop allows in electrons from S/D (rapidly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-field ends at surfa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 more voltage across Cd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6"/>
              <p:cNvSpPr txBox="1"/>
              <p:nvPr/>
            </p:nvSpPr>
            <p:spPr>
              <a:xfrm>
                <a:off x="4876920" y="990720"/>
                <a:ext cx="2895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TH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F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ep</m:t>
                        </m:r>
                      </m:num>
                      <m:den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, </m:t>
                    </m:r>
                    <m:r>
                      <m:rPr>
                        <m:lit/>
                        <m:nor/>
                      </m:rPr>
                      <m:t xml:space="preserve">wher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7"/>
              <p:cNvSpPr txBox="1"/>
              <p:nvPr/>
            </p:nvSpPr>
            <p:spPr>
              <a:xfrm>
                <a:off x="7238880" y="1360440"/>
                <a:ext cx="1752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gate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lic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7238880" y="1600200"/>
                <a:ext cx="19051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ub</m:t>
                        </m:r>
                        <m:r>
                          <m:t xml:space="preserve">n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9"/>
              <p:cNvSpPr txBox="1"/>
              <p:nvPr/>
            </p:nvSpPr>
            <p:spPr>
              <a:xfrm>
                <a:off x="7238880" y="2057400"/>
                <a:ext cx="19051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de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qe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u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FET Sub-Vt Characteristic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0"/>
          <p:cNvGrpSpPr/>
          <p:nvPr/>
        </p:nvGrpSpPr>
        <p:grpSpPr>
          <a:xfrm>
            <a:off x="1676520" y="1015920"/>
            <a:ext cx="5438520" cy="2362320"/>
            <a:chOff x="1676520" y="1015920"/>
            <a:chExt cx="5438520" cy="2362320"/>
          </a:xfrm>
        </p:grpSpPr>
        <p:pic>
          <p:nvPicPr>
            <p:cNvPr id="80" name="Picture 5" descr=""/>
            <p:cNvPicPr/>
            <p:nvPr/>
          </p:nvPicPr>
          <p:blipFill>
            <a:blip r:embed="rId1"/>
            <a:stretch/>
          </p:blipFill>
          <p:spPr>
            <a:xfrm>
              <a:off x="1752480" y="1015920"/>
              <a:ext cx="536256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5"/>
            <p:cNvSpPr/>
            <p:nvPr/>
          </p:nvSpPr>
          <p:spPr>
            <a:xfrm>
              <a:off x="2895480" y="1549080"/>
              <a:ext cx="3200400" cy="17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1676520" y="1473120"/>
              <a:ext cx="38088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6477120" y="1473120"/>
              <a:ext cx="38088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2316240" y="1076040"/>
              <a:ext cx="38088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1676520" y="2235240"/>
              <a:ext cx="38088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0"/>
          <p:cNvGrpSpPr/>
          <p:nvPr/>
        </p:nvGrpSpPr>
        <p:grpSpPr>
          <a:xfrm>
            <a:off x="6568560" y="672840"/>
            <a:ext cx="838440" cy="1448280"/>
            <a:chOff x="6568560" y="672840"/>
            <a:chExt cx="838440" cy="1448280"/>
          </a:xfrm>
        </p:grpSpPr>
        <p:cxnSp>
          <p:nvCxnSpPr>
            <p:cNvPr id="87" name="Straight Arrow Connector 14"/>
            <p:cNvCxnSpPr/>
            <p:nvPr/>
          </p:nvCxnSpPr>
          <p:spPr>
            <a:xfrm>
              <a:off x="6568560" y="2119320"/>
              <a:ext cx="62964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Straight Arrow Connector 15"/>
            <p:cNvCxnSpPr/>
            <p:nvPr/>
          </p:nvCxnSpPr>
          <p:spPr>
            <a:xfrm flipV="1">
              <a:off x="6568920" y="1117080"/>
              <a:ext cx="2160" cy="1003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" name="Arc 17"/>
            <p:cNvSpPr/>
            <p:nvPr/>
          </p:nvSpPr>
          <p:spPr>
            <a:xfrm rot="10800000">
              <a:off x="6568560" y="672840"/>
              <a:ext cx="838440" cy="1446120"/>
            </a:xfrm>
            <a:custGeom>
              <a:avLst/>
              <a:gdLst>
                <a:gd name="textAreaLeft" fmla="*/ 419400 w 838440"/>
                <a:gd name="textAreaRight" fmla="*/ 838440 w 838440"/>
                <a:gd name="textAreaTop" fmla="*/ 0 h 1446120"/>
                <a:gd name="textAreaBottom" fmla="*/ 704520 h 1446120"/>
              </a:gdLst>
              <a:ahLst/>
              <a:rect l="textAreaLeft" t="textAreaTop" r="textAreaRight" b="textAreaBottom"/>
              <a:pathLst>
                <a:path stroke="0" w="609600" h="991100">
                  <a:moveTo>
                    <a:pt x="304801" y="0"/>
                  </a:moveTo>
                  <a:lnTo>
                    <a:pt x="304801" y="0"/>
                  </a:lnTo>
                  <a:arcTo wR="304800" hR="495550" stAng="-5399993" swAng="5256835"/>
                  <a:lnTo>
                    <a:pt x="304800" y="495550"/>
                  </a:lnTo>
                  <a:close/>
                </a:path>
                <a:path fill="none" w="609600" h="991100">
                  <a:moveTo>
                    <a:pt x="304801" y="0"/>
                  </a:moveTo>
                  <a:lnTo>
                    <a:pt x="304801" y="0"/>
                  </a:lnTo>
                  <a:arcTo wR="304800" hR="495550" stAng="-5399993" swAng="5256835"/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21"/>
          <p:cNvSpPr/>
          <p:nvPr/>
        </p:nvSpPr>
        <p:spPr>
          <a:xfrm>
            <a:off x="7162920" y="200196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rier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6553080" y="1015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3"/>
          <p:cNvGrpSpPr/>
          <p:nvPr/>
        </p:nvGrpSpPr>
        <p:grpSpPr>
          <a:xfrm>
            <a:off x="1201680" y="666720"/>
            <a:ext cx="838080" cy="1448280"/>
            <a:chOff x="1201680" y="666720"/>
            <a:chExt cx="838080" cy="1448280"/>
          </a:xfrm>
        </p:grpSpPr>
        <p:cxnSp>
          <p:nvCxnSpPr>
            <p:cNvPr id="93" name="Straight Arrow Connector 24"/>
            <p:cNvCxnSpPr/>
            <p:nvPr/>
          </p:nvCxnSpPr>
          <p:spPr>
            <a:xfrm flipH="1">
              <a:off x="1410840" y="2113200"/>
              <a:ext cx="6292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Straight Arrow Connector 25"/>
            <p:cNvCxnSpPr/>
            <p:nvPr/>
          </p:nvCxnSpPr>
          <p:spPr>
            <a:xfrm flipH="1" flipV="1">
              <a:off x="2037960" y="1110960"/>
              <a:ext cx="2160" cy="1003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Arc 26"/>
            <p:cNvSpPr/>
            <p:nvPr/>
          </p:nvSpPr>
          <p:spPr>
            <a:xfrm flipH="1" rot="10800000">
              <a:off x="1201320" y="666720"/>
              <a:ext cx="838080" cy="1446480"/>
            </a:xfrm>
            <a:custGeom>
              <a:avLst/>
              <a:gdLst>
                <a:gd name="textAreaLeft" fmla="*/ 419040 w 838080"/>
                <a:gd name="textAreaRight" fmla="*/ 838080 w 838080"/>
                <a:gd name="textAreaTop" fmla="*/ 0 h 1446480"/>
                <a:gd name="textAreaBottom" fmla="*/ 704880 h 1446480"/>
              </a:gdLst>
              <a:ahLst/>
              <a:rect l="textAreaLeft" t="textAreaTop" r="textAreaRight" b="textAreaBottom"/>
              <a:pathLst>
                <a:path stroke="0" w="609600" h="991100">
                  <a:moveTo>
                    <a:pt x="304801" y="0"/>
                  </a:moveTo>
                  <a:lnTo>
                    <a:pt x="304801" y="0"/>
                  </a:lnTo>
                  <a:arcTo wR="304800" hR="495550" stAng="-5399993" swAng="5256835"/>
                  <a:lnTo>
                    <a:pt x="304800" y="495550"/>
                  </a:lnTo>
                  <a:close/>
                </a:path>
                <a:path fill="none" w="609600" h="991100">
                  <a:moveTo>
                    <a:pt x="304801" y="0"/>
                  </a:moveTo>
                  <a:lnTo>
                    <a:pt x="304801" y="0"/>
                  </a:lnTo>
                  <a:arcTo wR="304800" hR="495550" stAng="-5399993" swAng="5256835"/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6" name="Straight Arrow Connector 27"/>
          <p:cNvCxnSpPr/>
          <p:nvPr/>
        </p:nvCxnSpPr>
        <p:spPr>
          <a:xfrm flipV="1">
            <a:off x="1598760" y="4115520"/>
            <a:ext cx="3600" cy="160092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Straight Arrow Connector 29"/>
          <p:cNvCxnSpPr/>
          <p:nvPr/>
        </p:nvCxnSpPr>
        <p:spPr>
          <a:xfrm>
            <a:off x="1599840" y="5715000"/>
            <a:ext cx="6096600" cy="216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TextBox 32"/>
          <p:cNvSpPr/>
          <p:nvPr/>
        </p:nvSpPr>
        <p:spPr>
          <a:xfrm>
            <a:off x="-2286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ier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34"/>
          <p:cNvSpPr/>
          <p:nvPr/>
        </p:nvSpPr>
        <p:spPr>
          <a:xfrm>
            <a:off x="2514600" y="411480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35"/>
          <p:cNvSpPr/>
          <p:nvPr/>
        </p:nvSpPr>
        <p:spPr>
          <a:xfrm>
            <a:off x="6248520" y="411480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37"/>
          <p:cNvSpPr/>
          <p:nvPr/>
        </p:nvSpPr>
        <p:spPr>
          <a:xfrm>
            <a:off x="2514600" y="4419720"/>
            <a:ext cx="3733920" cy="106668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38"/>
          <p:cNvSpPr/>
          <p:nvPr/>
        </p:nvSpPr>
        <p:spPr>
          <a:xfrm flipV="1">
            <a:off x="2514600" y="4419720"/>
            <a:ext cx="3733920" cy="9144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42"/>
          <p:cNvCxnSpPr/>
          <p:nvPr/>
        </p:nvCxnSpPr>
        <p:spPr>
          <a:xfrm>
            <a:off x="2666880" y="4572000"/>
            <a:ext cx="10677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TextBox 43"/>
          <p:cNvSpPr/>
          <p:nvPr/>
        </p:nvSpPr>
        <p:spPr>
          <a:xfrm>
            <a:off x="2514600" y="3987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44"/>
          <p:cNvCxnSpPr/>
          <p:nvPr/>
        </p:nvCxnSpPr>
        <p:spPr>
          <a:xfrm flipH="1">
            <a:off x="4952520" y="4572000"/>
            <a:ext cx="10677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Box 45"/>
          <p:cNvSpPr/>
          <p:nvPr/>
        </p:nvSpPr>
        <p:spPr>
          <a:xfrm>
            <a:off x="5029200" y="4040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ain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4038480" y="3225960"/>
            <a:ext cx="28195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depends on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rough cap divi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7"/>
          <p:cNvSpPr/>
          <p:nvPr/>
        </p:nvSpPr>
        <p:spPr>
          <a:xfrm>
            <a:off x="6629400" y="57927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ral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48"/>
          <p:cNvCxnSpPr/>
          <p:nvPr/>
        </p:nvCxnSpPr>
        <p:spPr>
          <a:xfrm flipV="1">
            <a:off x="4037400" y="1751760"/>
            <a:ext cx="252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Straight Arrow Connector 50"/>
          <p:cNvCxnSpPr/>
          <p:nvPr/>
        </p:nvCxnSpPr>
        <p:spPr>
          <a:xfrm flipV="1">
            <a:off x="2133720" y="2057040"/>
            <a:ext cx="216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TextBox 52"/>
          <p:cNvSpPr/>
          <p:nvPr/>
        </p:nvSpPr>
        <p:spPr>
          <a:xfrm>
            <a:off x="1295280" y="32767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53"/>
          <p:cNvCxnSpPr/>
          <p:nvPr/>
        </p:nvCxnSpPr>
        <p:spPr>
          <a:xfrm flipV="1">
            <a:off x="6705720" y="2057040"/>
            <a:ext cx="216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Box 54"/>
          <p:cNvSpPr/>
          <p:nvPr/>
        </p:nvSpPr>
        <p:spPr>
          <a:xfrm>
            <a:off x="6705720" y="3276720"/>
            <a:ext cx="281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DRAI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5"/>
          <p:cNvSpPr/>
          <p:nvPr/>
        </p:nvSpPr>
        <p:spPr>
          <a:xfrm>
            <a:off x="6781680" y="4191120"/>
            <a:ext cx="243864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00000"/>
                </a:solidFill>
                <a:uFillTx/>
                <a:latin typeface="Arial"/>
              </a:rPr>
              <a:t>Concen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Depends exponentially on V</a:t>
            </a:r>
            <a:r>
              <a:rPr b="1" lang="en-US" sz="1400" spc="-1" strike="noStrike" baseline="-25000">
                <a:solidFill>
                  <a:srgbClr val="c00000"/>
                </a:solidFill>
                <a:latin typeface="Arial"/>
              </a:rPr>
              <a:t>CH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-V</a:t>
            </a:r>
            <a:r>
              <a:rPr b="1" lang="en-US" sz="1400" spc="-1" strike="noStrike" baseline="-25000">
                <a:solidFill>
                  <a:srgbClr val="c00000"/>
                </a:solidFill>
                <a:latin typeface="Arial"/>
              </a:rPr>
              <a:t>DRAIN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s too low to affect channe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1400" spc="-1" strike="noStrike" u="sng">
                <a:solidFill>
                  <a:srgbClr val="c00000"/>
                </a:solidFill>
                <a:uFillTx/>
                <a:latin typeface="Arial"/>
              </a:rPr>
              <a:t>→ </a:t>
            </a:r>
            <a:r>
              <a:rPr b="1" i="1" lang="en-US" sz="1400" spc="-1" strike="noStrike" u="sng">
                <a:solidFill>
                  <a:srgbClr val="c00000"/>
                </a:solidFill>
                <a:uFillTx/>
                <a:latin typeface="Arial"/>
              </a:rPr>
              <a:t>diffusion 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56"/>
          <p:cNvCxnSpPr/>
          <p:nvPr/>
        </p:nvCxnSpPr>
        <p:spPr>
          <a:xfrm flipH="1">
            <a:off x="6324120" y="4419720"/>
            <a:ext cx="457920" cy="2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6" name="Object 43"/>
              <p:cNvSpPr txBox="1"/>
              <p:nvPr/>
            </p:nvSpPr>
            <p:spPr>
              <a:xfrm>
                <a:off x="1981080" y="5856120"/>
                <a:ext cx="45720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G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  <m:r>
                              <m:t xml:space="preserve">q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S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  <m:r>
                              <m:t xml:space="preserve">q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D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  <m:r>
                              <m:t xml:space="preserve">q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FET Sub-Vt Characteristic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434440" cy="3962520"/>
          </a:xfrm>
          <a:prstGeom prst="rect">
            <a:avLst/>
          </a:prstGeom>
          <a:ln w="0">
            <a:noFill/>
          </a:ln>
        </p:spPr>
      </p:pic>
      <p:sp>
        <p:nvSpPr>
          <p:cNvPr id="119" name="Straight Connector 6"/>
          <p:cNvSpPr/>
          <p:nvPr/>
        </p:nvSpPr>
        <p:spPr>
          <a:xfrm>
            <a:off x="1905120" y="2362320"/>
            <a:ext cx="0" cy="3429000"/>
          </a:xfrm>
          <a:prstGeom prst="line">
            <a:avLst/>
          </a:prstGeom>
          <a:ln w="316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1704960" y="5715000"/>
            <a:ext cx="285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≈ (4 to 5) x kT/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ve V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127760" cy="1131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4930920" y="990720"/>
            <a:ext cx="4060800" cy="1218960"/>
          </a:xfrm>
          <a:prstGeom prst="rect">
            <a:avLst/>
          </a:prstGeom>
          <a:ln w="0">
            <a:noFill/>
          </a:ln>
        </p:spPr>
      </p:pic>
      <p:sp>
        <p:nvSpPr>
          <p:cNvPr id="124" name="Right Arrow 16"/>
          <p:cNvSpPr/>
          <p:nvPr/>
        </p:nvSpPr>
        <p:spPr>
          <a:xfrm>
            <a:off x="4267080" y="1447920"/>
            <a:ext cx="609840" cy="48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3"/>
          <p:cNvGrpSpPr/>
          <p:nvPr/>
        </p:nvGrpSpPr>
        <p:grpSpPr>
          <a:xfrm>
            <a:off x="1049400" y="2590560"/>
            <a:ext cx="6951600" cy="2507040"/>
            <a:chOff x="1049400" y="2590560"/>
            <a:chExt cx="6951600" cy="2507040"/>
          </a:xfrm>
        </p:grpSpPr>
        <p:grpSp>
          <p:nvGrpSpPr>
            <p:cNvPr id="126" name="Group 19"/>
            <p:cNvGrpSpPr/>
            <p:nvPr/>
          </p:nvGrpSpPr>
          <p:grpSpPr>
            <a:xfrm>
              <a:off x="1513800" y="3090960"/>
              <a:ext cx="5439600" cy="2006640"/>
              <a:chOff x="1513800" y="3090960"/>
              <a:chExt cx="5439600" cy="2006640"/>
            </a:xfrm>
          </p:grpSpPr>
          <p:pic>
            <p:nvPicPr>
              <p:cNvPr id="127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9040" y="3090960"/>
                <a:ext cx="5364360" cy="20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Rectangle 21"/>
              <p:cNvSpPr/>
              <p:nvPr/>
            </p:nvSpPr>
            <p:spPr>
              <a:xfrm>
                <a:off x="2733120" y="3543120"/>
                <a:ext cx="3201120" cy="1522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1513800" y="3479760"/>
                <a:ext cx="380880" cy="452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6315480" y="3479760"/>
                <a:ext cx="380880" cy="452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2153520" y="3143160"/>
                <a:ext cx="380880" cy="452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1513800" y="4125960"/>
                <a:ext cx="380880" cy="4539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30"/>
            <p:cNvGrpSpPr/>
            <p:nvPr/>
          </p:nvGrpSpPr>
          <p:grpSpPr>
            <a:xfrm>
              <a:off x="6416640" y="2596680"/>
              <a:ext cx="838080" cy="1449000"/>
              <a:chOff x="6416640" y="2596680"/>
              <a:chExt cx="838080" cy="1449000"/>
            </a:xfrm>
          </p:grpSpPr>
          <p:cxnSp>
            <p:nvCxnSpPr>
              <p:cNvPr id="134" name="Straight Arrow Connector 31"/>
              <p:cNvCxnSpPr/>
              <p:nvPr/>
            </p:nvCxnSpPr>
            <p:spPr>
              <a:xfrm>
                <a:off x="6416640" y="4043880"/>
                <a:ext cx="629280" cy="21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5" name="Straight Arrow Connector 32"/>
              <p:cNvCxnSpPr/>
              <p:nvPr/>
            </p:nvCxnSpPr>
            <p:spPr>
              <a:xfrm flipV="1">
                <a:off x="6416640" y="3041640"/>
                <a:ext cx="2160" cy="1004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6" name="Arc 33"/>
              <p:cNvSpPr/>
              <p:nvPr/>
            </p:nvSpPr>
            <p:spPr>
              <a:xfrm rot="10800000">
                <a:off x="6416640" y="2596680"/>
                <a:ext cx="838080" cy="1446840"/>
              </a:xfrm>
              <a:custGeom>
                <a:avLst/>
                <a:gdLst>
                  <a:gd name="textAreaLeft" fmla="*/ 419040 w 838080"/>
                  <a:gd name="textAreaRight" fmla="*/ 838080 w 838080"/>
                  <a:gd name="textAreaTop" fmla="*/ 0 h 1446840"/>
                  <a:gd name="textAreaBottom" fmla="*/ 704880 h 1446840"/>
                </a:gdLst>
                <a:ahLst/>
                <a:rect l="textAreaLeft" t="textAreaTop" r="textAreaRight" b="textAreaBottom"/>
                <a:pathLst>
                  <a:path stroke="0" w="609530" h="990873">
                    <a:moveTo>
                      <a:pt x="304766" y="0"/>
                    </a:moveTo>
                    <a:lnTo>
                      <a:pt x="304766" y="0"/>
                    </a:lnTo>
                    <a:arcTo wR="304765" hR="495437" stAng="-5399993" swAng="5256829"/>
                    <a:lnTo>
                      <a:pt x="304765" y="495437"/>
                    </a:lnTo>
                    <a:close/>
                  </a:path>
                  <a:path fill="none" w="609530" h="990873">
                    <a:moveTo>
                      <a:pt x="304766" y="0"/>
                    </a:moveTo>
                    <a:lnTo>
                      <a:pt x="304766" y="0"/>
                    </a:lnTo>
                    <a:arcTo wR="304765" hR="495437" stAng="-5399993" swAng="5256829"/>
                  </a:path>
                </a:pathLst>
              </a:custGeom>
              <a:noFill/>
              <a:ln w="1908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Box 34"/>
            <p:cNvSpPr/>
            <p:nvPr/>
          </p:nvSpPr>
          <p:spPr>
            <a:xfrm>
              <a:off x="7010280" y="392616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rier den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35"/>
            <p:cNvSpPr/>
            <p:nvPr/>
          </p:nvSpPr>
          <p:spPr>
            <a:xfrm>
              <a:off x="6400800" y="293940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ergy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36"/>
            <p:cNvGrpSpPr/>
            <p:nvPr/>
          </p:nvGrpSpPr>
          <p:grpSpPr>
            <a:xfrm>
              <a:off x="1049400" y="2590560"/>
              <a:ext cx="838080" cy="1449000"/>
              <a:chOff x="1049400" y="2590560"/>
              <a:chExt cx="838080" cy="1449000"/>
            </a:xfrm>
          </p:grpSpPr>
          <p:cxnSp>
            <p:nvCxnSpPr>
              <p:cNvPr id="140" name="Straight Arrow Connector 37"/>
              <p:cNvCxnSpPr/>
              <p:nvPr/>
            </p:nvCxnSpPr>
            <p:spPr>
              <a:xfrm flipH="1">
                <a:off x="1258560" y="4037760"/>
                <a:ext cx="629280" cy="21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1" name="Straight Arrow Connector 38"/>
              <p:cNvCxnSpPr/>
              <p:nvPr/>
            </p:nvCxnSpPr>
            <p:spPr>
              <a:xfrm flipH="1" flipV="1">
                <a:off x="1885680" y="3035520"/>
                <a:ext cx="2160" cy="1004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2" name="Arc 39"/>
              <p:cNvSpPr/>
              <p:nvPr/>
            </p:nvSpPr>
            <p:spPr>
              <a:xfrm flipH="1" rot="10800000">
                <a:off x="1049040" y="2590560"/>
                <a:ext cx="838080" cy="1446840"/>
              </a:xfrm>
              <a:custGeom>
                <a:avLst/>
                <a:gdLst>
                  <a:gd name="textAreaLeft" fmla="*/ 419040 w 838080"/>
                  <a:gd name="textAreaRight" fmla="*/ 838080 w 838080"/>
                  <a:gd name="textAreaTop" fmla="*/ 0 h 1446840"/>
                  <a:gd name="textAreaBottom" fmla="*/ 704880 h 1446840"/>
                </a:gdLst>
                <a:ahLst/>
                <a:rect l="textAreaLeft" t="textAreaTop" r="textAreaRight" b="textAreaBottom"/>
                <a:pathLst>
                  <a:path stroke="0" w="609530" h="990873">
                    <a:moveTo>
                      <a:pt x="304766" y="0"/>
                    </a:moveTo>
                    <a:lnTo>
                      <a:pt x="304766" y="0"/>
                    </a:lnTo>
                    <a:arcTo wR="304765" hR="495437" stAng="-5399993" swAng="5256829"/>
                    <a:lnTo>
                      <a:pt x="304765" y="495437"/>
                    </a:lnTo>
                    <a:close/>
                  </a:path>
                  <a:path fill="none" w="609530" h="990873">
                    <a:moveTo>
                      <a:pt x="304766" y="0"/>
                    </a:moveTo>
                    <a:lnTo>
                      <a:pt x="304766" y="0"/>
                    </a:lnTo>
                    <a:arcTo wR="304765" hR="495437" stAng="-5399993" swAng="5256829"/>
                  </a:path>
                </a:pathLst>
              </a:custGeom>
              <a:noFill/>
              <a:ln w="1908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Straight Connector 46"/>
            <p:cNvSpPr/>
            <p:nvPr/>
          </p:nvSpPr>
          <p:spPr>
            <a:xfrm>
              <a:off x="5791320" y="3600720"/>
              <a:ext cx="9144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47"/>
            <p:cNvSpPr/>
            <p:nvPr/>
          </p:nvSpPr>
          <p:spPr>
            <a:xfrm>
              <a:off x="3047400" y="3138840"/>
              <a:ext cx="312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0000"/>
                  </a:solidFill>
                  <a:latin typeface="Arial"/>
                </a:rPr>
                <a:t>Barrier is reduced; carriers flow freel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0000"/>
                  </a:solidFill>
                  <a:latin typeface="Arial"/>
                </a:rPr>
                <a:t>(not limited by exponenti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Straight Connector 48"/>
          <p:cNvSpPr/>
          <p:nvPr/>
        </p:nvSpPr>
        <p:spPr>
          <a:xfrm>
            <a:off x="1523880" y="1893960"/>
            <a:ext cx="0" cy="76176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2"/>
          <p:cNvSpPr/>
          <p:nvPr/>
        </p:nvSpPr>
        <p:spPr>
          <a:xfrm>
            <a:off x="1523880" y="2422440"/>
            <a:ext cx="221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Lots of c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en-US" sz="1200" spc="-1" strike="noStrike" u="sng">
                <a:solidFill>
                  <a:srgbClr val="c00000"/>
                </a:solidFill>
                <a:uFillTx/>
                <a:latin typeface="Arial"/>
              </a:rPr>
              <a:t>can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 affect channel vol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4"/>
          <p:cNvSpPr/>
          <p:nvPr/>
        </p:nvSpPr>
        <p:spPr>
          <a:xfrm>
            <a:off x="-228600" y="4952880"/>
            <a:ext cx="5410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flow of carriers means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DRAI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gnificantly set S-D voltage across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→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rift curr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5"/>
          <p:cNvSpPr/>
          <p:nvPr/>
        </p:nvSpPr>
        <p:spPr>
          <a:xfrm>
            <a:off x="5173560" y="3527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3"/>
              <p:cNvSpPr txBox="1"/>
              <p:nvPr/>
            </p:nvSpPr>
            <p:spPr>
              <a:xfrm>
                <a:off x="3886200" y="6019920"/>
                <a:ext cx="14288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0" name="Straight Arrow Connector 35"/>
          <p:cNvCxnSpPr/>
          <p:nvPr/>
        </p:nvCxnSpPr>
        <p:spPr>
          <a:xfrm flipH="1" flipV="1">
            <a:off x="5333760" y="6248160"/>
            <a:ext cx="838800" cy="216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51" name="TextBox 52"/>
          <p:cNvSpPr/>
          <p:nvPr/>
        </p:nvSpPr>
        <p:spPr>
          <a:xfrm>
            <a:off x="6095880" y="5938920"/>
            <a:ext cx="221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aused by voltage drop across channe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1-12-15T12:52:19Z</dcterms:modified>
  <cp:revision>123</cp:revision>
  <dc:subject/>
  <dc:title>Slide 1</dc:title>
</cp:coreProperties>
</file>