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5: The MOSFET 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Sub-V</a:t>
            </a:r>
            <a:r>
              <a:rPr b="0" lang="en-US" sz="3200" spc="-1" strike="noStrike" baseline="-25000">
                <a:solidFill>
                  <a:srgbClr val="c0c0c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 MOSFET modulates energy barriers to cause diffusion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Above-V</a:t>
            </a:r>
            <a:r>
              <a:rPr b="0" lang="en-US" sz="3200" spc="-1" strike="noStrike" baseline="-25000">
                <a:solidFill>
                  <a:srgbClr val="c0c0c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 MOSFET creates voltage difference across channel for drift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-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perating reg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, saturation, velocity sat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apaci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linear Gate Capacit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raz80322_0241.jpg"/>
          <p:cNvPicPr/>
          <p:nvPr/>
        </p:nvPicPr>
        <p:blipFill>
          <a:blip r:embed="rId1"/>
          <a:stretch/>
        </p:blipFill>
        <p:spPr>
          <a:xfrm>
            <a:off x="2133720" y="2133720"/>
            <a:ext cx="49086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ode region curr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52280" y="1535040"/>
            <a:ext cx="4127760" cy="1131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4930920" y="1382760"/>
            <a:ext cx="40608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6"/>
          <p:cNvGrpSpPr/>
          <p:nvPr/>
        </p:nvGrpSpPr>
        <p:grpSpPr>
          <a:xfrm>
            <a:off x="4114800" y="3429000"/>
            <a:ext cx="3886200" cy="2408040"/>
            <a:chOff x="4114800" y="3429000"/>
            <a:chExt cx="3886200" cy="2408040"/>
          </a:xfrm>
        </p:grpSpPr>
        <p:pic>
          <p:nvPicPr>
            <p:cNvPr id="44" name="Picture 7" descr="740px-Bjt_forward_active_bands_svg.png"/>
            <p:cNvPicPr/>
            <p:nvPr/>
          </p:nvPicPr>
          <p:blipFill>
            <a:blip r:embed="rId3"/>
            <a:stretch/>
          </p:blipFill>
          <p:spPr>
            <a:xfrm>
              <a:off x="4114800" y="3598920"/>
              <a:ext cx="3886200" cy="21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Box 8"/>
            <p:cNvSpPr/>
            <p:nvPr/>
          </p:nvSpPr>
          <p:spPr>
            <a:xfrm>
              <a:off x="4304160" y="3429000"/>
              <a:ext cx="9478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9"/>
            <p:cNvSpPr/>
            <p:nvPr/>
          </p:nvSpPr>
          <p:spPr>
            <a:xfrm>
              <a:off x="6972480" y="3452760"/>
              <a:ext cx="9478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r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10"/>
            <p:cNvSpPr/>
            <p:nvPr/>
          </p:nvSpPr>
          <p:spPr>
            <a:xfrm>
              <a:off x="5486400" y="3452760"/>
              <a:ext cx="1143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1"/>
            <p:cNvSpPr/>
            <p:nvPr/>
          </p:nvSpPr>
          <p:spPr>
            <a:xfrm>
              <a:off x="4686120" y="5499720"/>
              <a:ext cx="1257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-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.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2"/>
            <p:cNvSpPr/>
            <p:nvPr/>
          </p:nvSpPr>
          <p:spPr>
            <a:xfrm>
              <a:off x="6057720" y="5499720"/>
              <a:ext cx="1257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.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ight Brace 13"/>
          <p:cNvSpPr/>
          <p:nvPr/>
        </p:nvSpPr>
        <p:spPr>
          <a:xfrm>
            <a:off x="7238880" y="3809880"/>
            <a:ext cx="152640" cy="762120"/>
          </a:xfrm>
          <a:custGeom>
            <a:avLst/>
            <a:gdLst>
              <a:gd name="textAreaLeft" fmla="*/ 0 w 152640"/>
              <a:gd name="textAreaRight" fmla="*/ 55080 w 152640"/>
              <a:gd name="textAreaTop" fmla="*/ 3960 h 762120"/>
              <a:gd name="textAreaBottom" fmla="*/ 7581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7391520" y="3886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Energy barrier becomes too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raz80322_0211.jpg"/>
          <p:cNvPicPr/>
          <p:nvPr/>
        </p:nvPicPr>
        <p:blipFill>
          <a:blip r:embed="rId4"/>
          <a:stretch/>
        </p:blipFill>
        <p:spPr>
          <a:xfrm>
            <a:off x="228600" y="3886200"/>
            <a:ext cx="33577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Right Arrow 16"/>
          <p:cNvSpPr/>
          <p:nvPr/>
        </p:nvSpPr>
        <p:spPr>
          <a:xfrm>
            <a:off x="4267080" y="1839960"/>
            <a:ext cx="609840" cy="48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17"/>
          <p:cNvCxnSpPr/>
          <p:nvPr/>
        </p:nvCxnSpPr>
        <p:spPr>
          <a:xfrm flipH="1">
            <a:off x="1751760" y="3659040"/>
            <a:ext cx="2520" cy="6105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5" name="TextBox 18"/>
          <p:cNvSpPr/>
          <p:nvPr/>
        </p:nvSpPr>
        <p:spPr>
          <a:xfrm>
            <a:off x="1676520" y="31240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Channel charge is almost zero at drain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2286000" y="58672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Channel charge does not actually go neg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ight Brace 20"/>
          <p:cNvSpPr/>
          <p:nvPr/>
        </p:nvSpPr>
        <p:spPr>
          <a:xfrm rot="5400000">
            <a:off x="2361960" y="518148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143000"/>
              <a:gd name="textAreaBottom" fmla="*/ 11372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uration region current – square la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06080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4119480" cy="3962160"/>
          </a:xfrm>
          <a:prstGeom prst="rect">
            <a:avLst/>
          </a:prstGeom>
          <a:ln w="0">
            <a:noFill/>
          </a:ln>
        </p:spPr>
      </p:pic>
      <p:sp>
        <p:nvSpPr>
          <p:cNvPr id="61" name="Right Brace 5"/>
          <p:cNvSpPr/>
          <p:nvPr/>
        </p:nvSpPr>
        <p:spPr>
          <a:xfrm rot="5400000">
            <a:off x="3846240" y="363204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960 h 1295640"/>
              <a:gd name="textAreaBottom" fmla="*/ 12916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6"/>
          <p:cNvCxnSpPr/>
          <p:nvPr/>
        </p:nvCxnSpPr>
        <p:spPr>
          <a:xfrm flipV="1">
            <a:off x="3919680" y="4370040"/>
            <a:ext cx="2160" cy="2548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3" name="Straight Connector 11"/>
          <p:cNvSpPr/>
          <p:nvPr/>
        </p:nvSpPr>
        <p:spPr>
          <a:xfrm flipV="1">
            <a:off x="3900600" y="4632480"/>
            <a:ext cx="18223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5791320" y="4191120"/>
            <a:ext cx="3352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Arial"/>
              </a:rPr>
              <a:t>DRAIN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no longer affects channel region voltage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limited by energy barrier exponential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817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119480" cy="3962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738680" y="1219320"/>
            <a:ext cx="4253040" cy="4091040"/>
          </a:xfrm>
          <a:prstGeom prst="rect">
            <a:avLst/>
          </a:prstGeom>
          <a:ln w="0">
            <a:noFill/>
          </a:ln>
        </p:spPr>
      </p:pic>
      <p:sp>
        <p:nvSpPr>
          <p:cNvPr id="70" name="Right Brace 5"/>
          <p:cNvSpPr/>
          <p:nvPr/>
        </p:nvSpPr>
        <p:spPr>
          <a:xfrm rot="5400000">
            <a:off x="3085920" y="24001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960 h 1295280"/>
              <a:gd name="textAreaBottom" fmla="*/ 1291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Brace 6"/>
          <p:cNvSpPr/>
          <p:nvPr/>
        </p:nvSpPr>
        <p:spPr>
          <a:xfrm rot="5400000">
            <a:off x="7284240" y="1783440"/>
            <a:ext cx="152280" cy="2224080"/>
          </a:xfrm>
          <a:custGeom>
            <a:avLst/>
            <a:gdLst>
              <a:gd name="textAreaLeft" fmla="*/ 0 w 152280"/>
              <a:gd name="textAreaRight" fmla="*/ 55080 w 152280"/>
              <a:gd name="textAreaTop" fmla="*/ 3960 h 2224080"/>
              <a:gd name="textAreaBottom" fmla="*/ 2220120 h 22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3"/>
                </a:cubicBezTo>
                <a:lnTo>
                  <a:pt x="10800" y="10677"/>
                </a:lnTo>
                <a:cubicBezTo>
                  <a:pt x="10800" y="10739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3"/>
                </a:cubicBezTo>
                <a:lnTo>
                  <a:pt x="10800" y="21477"/>
                </a:lnTo>
                <a:cubicBezTo>
                  <a:pt x="10800" y="2153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7"/>
          <p:cNvCxnSpPr/>
          <p:nvPr/>
        </p:nvCxnSpPr>
        <p:spPr>
          <a:xfrm flipV="1">
            <a:off x="3159720" y="3163680"/>
            <a:ext cx="3960" cy="2286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3" name="TextBox 10"/>
          <p:cNvSpPr/>
          <p:nvPr/>
        </p:nvSpPr>
        <p:spPr>
          <a:xfrm>
            <a:off x="533520" y="5486400"/>
            <a:ext cx="3352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hannel region voltage drop no longer changes with V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Arial"/>
              </a:rPr>
              <a:t>D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11"/>
          <p:cNvCxnSpPr/>
          <p:nvPr/>
        </p:nvCxnSpPr>
        <p:spPr>
          <a:xfrm flipV="1">
            <a:off x="7361280" y="3015360"/>
            <a:ext cx="2160" cy="2591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5" name="TextBox 13"/>
          <p:cNvSpPr/>
          <p:nvPr/>
        </p:nvSpPr>
        <p:spPr>
          <a:xfrm>
            <a:off x="4648320" y="5562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hannel region voltage drop no longer increases carrier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ain current above 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848400" cy="3590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4122360" y="228600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Linear/Tri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047840" y="373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at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046400" y="518148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Velocity Sat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4191120" y="1143000"/>
                <a:ext cx="4697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n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ox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GS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V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4648320" y="2819520"/>
                <a:ext cx="12952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4622760" y="4267080"/>
                <a:ext cx="20066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GS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4572000" y="5740560"/>
                <a:ext cx="16509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DSat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Box 12"/>
          <p:cNvSpPr/>
          <p:nvPr/>
        </p:nvSpPr>
        <p:spPr>
          <a:xfrm>
            <a:off x="6400800" y="2830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rain voltage limits curr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6400800" y="42307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annel energy barrier limits curr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6400800" y="5715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bility/velocity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_x0011_raz80322_0216.jpg                                              5901003E_x000b_Unix_hobbes                    B69AD901: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220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3989520" y="3352680"/>
                <a:ext cx="1447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3456000" y="3741840"/>
                <a:ext cx="25146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D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2567160" y="4562640"/>
                <a:ext cx="42908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λV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λV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D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2529000" y="5384880"/>
                <a:ext cx="43671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n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GS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T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λV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 Box 8"/>
          <p:cNvSpPr/>
          <p:nvPr/>
        </p:nvSpPr>
        <p:spPr>
          <a:xfrm>
            <a:off x="2819520" y="2851200"/>
            <a:ext cx="3045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902280" y="2859120"/>
            <a:ext cx="3812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capacit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_x0011_raz80322_0230.jpg                                              5901003E_x000b_Unix_hobbes                    B69AD901:"/>
          <p:cNvPicPr/>
          <p:nvPr/>
        </p:nvPicPr>
        <p:blipFill>
          <a:blip r:embed="rId1"/>
          <a:stretch/>
        </p:blipFill>
        <p:spPr>
          <a:xfrm>
            <a:off x="5791320" y="3579840"/>
            <a:ext cx="2743200" cy="266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04920" y="4113360"/>
            <a:ext cx="517032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1371600" y="1219320"/>
            <a:ext cx="61149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ICE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72240" cy="3657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4495680" y="3581280"/>
            <a:ext cx="1676520" cy="304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495680" y="3276720"/>
            <a:ext cx="1676520" cy="304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6391440" y="3322800"/>
            <a:ext cx="1904760" cy="304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11"/>
          <p:cNvCxnSpPr/>
          <p:nvPr/>
        </p:nvCxnSpPr>
        <p:spPr>
          <a:xfrm flipV="1">
            <a:off x="4874040" y="3886920"/>
            <a:ext cx="3960" cy="2134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TextBox 12"/>
          <p:cNvSpPr/>
          <p:nvPr/>
        </p:nvSpPr>
        <p:spPr>
          <a:xfrm>
            <a:off x="4882320" y="56386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=CG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F/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13"/>
          <p:cNvCxnSpPr/>
          <p:nvPr/>
        </p:nvCxnSpPr>
        <p:spPr>
          <a:xfrm flipV="1">
            <a:off x="6858000" y="3656880"/>
            <a:ext cx="2160" cy="2134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8" name="TextBox 14"/>
          <p:cNvSpPr/>
          <p:nvPr/>
        </p:nvSpPr>
        <p:spPr>
          <a:xfrm>
            <a:off x="6862320" y="55627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F/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15"/>
          <p:cNvCxnSpPr/>
          <p:nvPr/>
        </p:nvCxnSpPr>
        <p:spPr>
          <a:xfrm flipH="1">
            <a:off x="4950720" y="1373040"/>
            <a:ext cx="3960" cy="1905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0" name="TextBox 18"/>
          <p:cNvSpPr/>
          <p:nvPr/>
        </p:nvSpPr>
        <p:spPr>
          <a:xfrm>
            <a:off x="4962960" y="12193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F/m</a:t>
            </a:r>
            <a:r>
              <a:rPr b="1" lang="en-US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20"/>
          <p:cNvSpPr/>
          <p:nvPr/>
        </p:nvSpPr>
        <p:spPr>
          <a:xfrm>
            <a:off x="1066680" y="3581280"/>
            <a:ext cx="1219320" cy="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21"/>
          <p:cNvCxnSpPr/>
          <p:nvPr/>
        </p:nvCxnSpPr>
        <p:spPr>
          <a:xfrm flipV="1">
            <a:off x="1522800" y="3580560"/>
            <a:ext cx="2520" cy="2134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3" name="TextBox 22"/>
          <p:cNvSpPr/>
          <p:nvPr/>
        </p:nvSpPr>
        <p:spPr>
          <a:xfrm>
            <a:off x="1585080" y="5486400"/>
            <a:ext cx="2154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1" lang="el-GR" sz="1800" spc="-1" strike="noStrike">
                <a:solidFill>
                  <a:srgbClr val="c00000"/>
                </a:solidFill>
                <a:latin typeface="Arial"/>
              </a:rPr>
              <a:t>ε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Arial"/>
              </a:rPr>
              <a:t>OX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/T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≈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4mF/m</a:t>
            </a:r>
            <a:r>
              <a:rPr b="1" lang="en-US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(4fF/</a:t>
            </a:r>
            <a:r>
              <a:rPr b="1" lang="el-GR" sz="1800" spc="-1" strike="noStrike">
                <a:solidFill>
                  <a:srgbClr val="c00000"/>
                </a:solidFill>
                <a:latin typeface="Arial"/>
              </a:rPr>
              <a:t>μ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12-15T12:53:37Z</dcterms:modified>
  <cp:revision>123</cp:revision>
  <dc:subject/>
  <dc:title>Slide 1</dc:title>
</cp:coreProperties>
</file>