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7: Transconductor Bia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mall-signal MOSFET model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ing the 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FET as a transconductor and voltage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sconductor = amplifier with infinit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the bias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8"/>
          <p:cNvGrpSpPr/>
          <p:nvPr/>
        </p:nvGrpSpPr>
        <p:grpSpPr>
          <a:xfrm>
            <a:off x="4284720" y="990720"/>
            <a:ext cx="4707000" cy="3962160"/>
            <a:chOff x="4284720" y="990720"/>
            <a:chExt cx="4707000" cy="3962160"/>
          </a:xfrm>
        </p:grpSpPr>
        <p:pic>
          <p:nvPicPr>
            <p:cNvPr id="41" name="Picture 6" descr=""/>
            <p:cNvPicPr/>
            <p:nvPr/>
          </p:nvPicPr>
          <p:blipFill>
            <a:blip r:embed="rId1"/>
            <a:stretch/>
          </p:blipFill>
          <p:spPr>
            <a:xfrm>
              <a:off x="4450320" y="990720"/>
              <a:ext cx="45414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Rectangle 6"/>
            <p:cNvSpPr/>
            <p:nvPr/>
          </p:nvSpPr>
          <p:spPr>
            <a:xfrm>
              <a:off x="4284720" y="4319640"/>
              <a:ext cx="58104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7"/>
            <p:cNvSpPr/>
            <p:nvPr/>
          </p:nvSpPr>
          <p:spPr>
            <a:xfrm>
              <a:off x="4284720" y="1882800"/>
              <a:ext cx="4143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g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19320"/>
            <a:ext cx="4267080" cy="334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49840" y="4648320"/>
            <a:ext cx="3664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curre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q. r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1447920" y="5129280"/>
                <a:ext cx="1752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" name="TextBox 11"/>
          <p:cNvSpPr/>
          <p:nvPr/>
        </p:nvSpPr>
        <p:spPr>
          <a:xfrm>
            <a:off x="245880" y="5769000"/>
            <a:ext cx="3751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curre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near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1514520" y="6095880"/>
                <a:ext cx="847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I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TextBox 13"/>
          <p:cNvSpPr/>
          <p:nvPr/>
        </p:nvSpPr>
        <p:spPr>
          <a:xfrm>
            <a:off x="4681800" y="4876920"/>
            <a:ext cx="4447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curre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rin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rts to go down lin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ll (weak inv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6400800" y="6172200"/>
            <a:ext cx="857160" cy="533520"/>
            <a:chOff x="6400800" y="6172200"/>
            <a:chExt cx="857160" cy="533520"/>
          </a:xfrm>
        </p:grpSpPr>
        <p:pic>
          <p:nvPicPr>
            <p:cNvPr id="52" name="Picture 9" descr=""/>
            <p:cNvPicPr/>
            <p:nvPr/>
          </p:nvPicPr>
          <p:blipFill>
            <a:blip r:embed="rId3"/>
            <a:stretch/>
          </p:blipFill>
          <p:spPr>
            <a:xfrm>
              <a:off x="6705360" y="6172200"/>
              <a:ext cx="5526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0" descr=""/>
            <p:cNvPicPr/>
            <p:nvPr/>
          </p:nvPicPr>
          <p:blipFill>
            <a:blip r:embed="rId4"/>
            <a:stretch/>
          </p:blipFill>
          <p:spPr>
            <a:xfrm>
              <a:off x="6400800" y="6248160"/>
              <a:ext cx="29520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4"/>
          <p:cNvSpPr/>
          <p:nvPr/>
        </p:nvSpPr>
        <p:spPr>
          <a:xfrm>
            <a:off x="7398360" y="4067280"/>
            <a:ext cx="15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urtesy H.-S.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2:54:49Z</dcterms:modified>
  <cp:revision>117</cp:revision>
  <dc:subject/>
  <dc:title>Slide 1</dc:title>
</cp:coreProperties>
</file>