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8: CS Amp and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mall-signal MOSFET model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ing the 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FET as a transconductor and voltage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ransconductor = amplifier with infinite 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the bias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ological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62160" y="3733920"/>
            <a:ext cx="4543560" cy="3028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6689160" y="633564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tesy F. Yaziciog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9"/>
          <p:cNvGrpSpPr/>
          <p:nvPr/>
        </p:nvGrpSpPr>
        <p:grpSpPr>
          <a:xfrm>
            <a:off x="1809720" y="990720"/>
            <a:ext cx="4971960" cy="2743200"/>
            <a:chOff x="1809720" y="990720"/>
            <a:chExt cx="4971960" cy="2743200"/>
          </a:xfrm>
        </p:grpSpPr>
        <p:pic>
          <p:nvPicPr>
            <p:cNvPr id="44" name="Picture 4" descr=""/>
            <p:cNvPicPr/>
            <p:nvPr/>
          </p:nvPicPr>
          <p:blipFill>
            <a:blip r:embed="rId2"/>
            <a:stretch/>
          </p:blipFill>
          <p:spPr>
            <a:xfrm>
              <a:off x="1809720" y="990720"/>
              <a:ext cx="49719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ounded Rectangle 8"/>
            <p:cNvSpPr/>
            <p:nvPr/>
          </p:nvSpPr>
          <p:spPr>
            <a:xfrm>
              <a:off x="6095880" y="1676520"/>
              <a:ext cx="457200" cy="91440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14400"/>
                <a:gd name="textAreaBottom" fmla="*/ 89208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3600" y="0"/>
                  </a:moveTo>
                  <a:arcTo wR="3600" hR="3600" stAng="16200000" swAng="-5400000"/>
                  <a:lnTo>
                    <a:pt x="0" y="39583"/>
                  </a:lnTo>
                  <a:arcTo wR="3600" hR="3600" stAng="10800000" swAng="-5400000"/>
                  <a:lnTo>
                    <a:pt x="18000" y="431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9"/>
            <p:cNvSpPr/>
            <p:nvPr/>
          </p:nvSpPr>
          <p:spPr>
            <a:xfrm>
              <a:off x="6098400" y="19479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(transduce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2"/>
              <p:cNvSpPr txBox="1"/>
              <p:nvPr/>
            </p:nvSpPr>
            <p:spPr>
              <a:xfrm>
                <a:off x="3352680" y="1143000"/>
                <a:ext cx="24386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↔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Text Box 5"/>
          <p:cNvSpPr/>
          <p:nvPr/>
        </p:nvSpPr>
        <p:spPr>
          <a:xfrm>
            <a:off x="2438280" y="838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l Ion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6668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743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ilver"/>
          <p:cNvPicPr/>
          <p:nvPr/>
        </p:nvPicPr>
        <p:blipFill>
          <a:blip r:embed="rId1"/>
          <a:stretch/>
        </p:blipFill>
        <p:spPr>
          <a:xfrm>
            <a:off x="1676520" y="3824280"/>
            <a:ext cx="289548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791320" y="4583160"/>
                <a:ext cx="16761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5486400" y="4964040"/>
                <a:ext cx="2286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AgCl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838080" y="5881680"/>
            <a:ext cx="99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72000" y="534816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181480" y="374796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ion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542160" y="3214800"/>
            <a:ext cx="31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.g. Ag/AgCl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9"/>
          <p:cNvGrpSpPr/>
          <p:nvPr/>
        </p:nvGrpSpPr>
        <p:grpSpPr>
          <a:xfrm>
            <a:off x="3210480" y="2286000"/>
            <a:ext cx="2030040" cy="337320"/>
            <a:chOff x="3210480" y="2286000"/>
            <a:chExt cx="2030040" cy="337320"/>
          </a:xfrm>
        </p:grpSpPr>
        <p:sp>
          <p:nvSpPr>
            <p:cNvPr id="60" name="TextBox 7"/>
            <p:cNvSpPr/>
            <p:nvPr/>
          </p:nvSpPr>
          <p:spPr>
            <a:xfrm>
              <a:off x="3210480" y="228600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(oxida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Straight Arrow Connector 21"/>
            <p:cNvCxnSpPr/>
            <p:nvPr/>
          </p:nvCxnSpPr>
          <p:spPr>
            <a:xfrm>
              <a:off x="4402080" y="2446200"/>
              <a:ext cx="83880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62" name="TextBox 26"/>
          <p:cNvSpPr/>
          <p:nvPr/>
        </p:nvSpPr>
        <p:spPr>
          <a:xfrm>
            <a:off x="4124880" y="25909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(red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7"/>
          <p:cNvCxnSpPr/>
          <p:nvPr/>
        </p:nvCxnSpPr>
        <p:spPr>
          <a:xfrm flipH="1" flipV="1">
            <a:off x="3212640" y="2795400"/>
            <a:ext cx="91512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ge double layer, half-cell potent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oub_layer"/>
          <p:cNvPicPr/>
          <p:nvPr/>
        </p:nvPicPr>
        <p:blipFill>
          <a:blip r:embed="rId1"/>
          <a:stretch/>
        </p:blipFill>
        <p:spPr>
          <a:xfrm>
            <a:off x="152280" y="1905120"/>
            <a:ext cx="565812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389600" y="14479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867280" y="9907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Oxidation/reduction leads to a charge double layer and half cell 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8"/>
          <p:cNvCxnSpPr/>
          <p:nvPr/>
        </p:nvCxnSpPr>
        <p:spPr>
          <a:xfrm>
            <a:off x="1143000" y="5486400"/>
            <a:ext cx="32774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9"/>
          <p:cNvSpPr/>
          <p:nvPr/>
        </p:nvSpPr>
        <p:spPr>
          <a:xfrm>
            <a:off x="380160" y="510552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Voltage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able"/>
          <p:cNvPicPr/>
          <p:nvPr/>
        </p:nvPicPr>
        <p:blipFill>
          <a:blip r:embed="rId2"/>
          <a:stretch/>
        </p:blipFill>
        <p:spPr>
          <a:xfrm>
            <a:off x="5562720" y="2133720"/>
            <a:ext cx="3581280" cy="4686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5867280" y="4800600"/>
            <a:ext cx="31244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5867280" y="5943600"/>
            <a:ext cx="31244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4777560" y="44197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reference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equivalent"/>
          <p:cNvPicPr/>
          <p:nvPr/>
        </p:nvPicPr>
        <p:blipFill>
          <a:blip r:embed="rId1"/>
          <a:stretch/>
        </p:blipFill>
        <p:spPr>
          <a:xfrm>
            <a:off x="1905120" y="1828800"/>
            <a:ext cx="49528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752480" y="4648320"/>
            <a:ext cx="5486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: capacitance of electrode-electrolyt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: resistance of electrode-electrolyt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istance of electrode lead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cell potential for elect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419720" y="914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Polarizable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(no direct current flow, only displacement current through charge double lay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7"/>
          <p:cNvCxnSpPr/>
          <p:nvPr/>
        </p:nvCxnSpPr>
        <p:spPr>
          <a:xfrm flipH="1">
            <a:off x="4343040" y="1295280"/>
            <a:ext cx="2160" cy="6105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9" name="Straight Arrow Connector 8"/>
          <p:cNvCxnSpPr/>
          <p:nvPr/>
        </p:nvCxnSpPr>
        <p:spPr>
          <a:xfrm flipH="1" flipV="1">
            <a:off x="4266360" y="3428280"/>
            <a:ext cx="2520" cy="68652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0" name="TextBox 10"/>
          <p:cNvSpPr/>
          <p:nvPr/>
        </p:nvSpPr>
        <p:spPr>
          <a:xfrm>
            <a:off x="4343400" y="3657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Non-polarizable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(direct current flow through ions and electrons across electrode-electrolyte interf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2362320" y="6095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n practice, electrodes have both a polarizing and a non-polarizing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mark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81880" cy="4716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6689160" y="633564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tesy F. Yaziciog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width of physiological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G: 0.01Hz-20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G: 0.5Hz-25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G: 20Hz-60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G: 0.1Hz-1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kes: 300Hz- 5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ty-gain frequen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286000" y="1409760"/>
            <a:ext cx="6172200" cy="4914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431880" y="2933640"/>
            <a:ext cx="148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ak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pe ~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9"/>
          <p:cNvCxnSpPr/>
          <p:nvPr/>
        </p:nvCxnSpPr>
        <p:spPr>
          <a:xfrm flipH="1">
            <a:off x="3960000" y="3468600"/>
            <a:ext cx="39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Straight Arrow Connector 10"/>
          <p:cNvCxnSpPr/>
          <p:nvPr/>
        </p:nvCxnSpPr>
        <p:spPr>
          <a:xfrm flipH="1" flipV="1">
            <a:off x="4952520" y="3466800"/>
            <a:ext cx="53424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Box 13"/>
          <p:cNvSpPr/>
          <p:nvPr/>
        </p:nvSpPr>
        <p:spPr>
          <a:xfrm>
            <a:off x="5202720" y="4381560"/>
            <a:ext cx="1299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asing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lower 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1905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3-05T19:46:45Z</dcterms:modified>
  <cp:revision>131</cp:revision>
  <dc:subject/>
  <dc:title>Slide 1</dc:title>
</cp:coreProperties>
</file>