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9: CS Amp and Biology I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Electrod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C response of CS Am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GB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nput poles,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 response of CS 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ass-band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the gain-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de Impeda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equivalent"/>
          <p:cNvPicPr/>
          <p:nvPr/>
        </p:nvPicPr>
        <p:blipFill>
          <a:blip r:embed="rId1"/>
          <a:stretch/>
        </p:blipFill>
        <p:spPr>
          <a:xfrm>
            <a:off x="990720" y="2274840"/>
            <a:ext cx="495288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838080" y="5094360"/>
            <a:ext cx="54864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: capacitance of electrode-electrolyte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: resistance of electrode-electrolyte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resistance of electrode lead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e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: cell potential for electr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28600" y="136044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Arial"/>
              </a:rPr>
              <a:t>Polarizable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 (no direct current flow, only displacement current through charge double laye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6"/>
          <p:cNvCxnSpPr/>
          <p:nvPr/>
        </p:nvCxnSpPr>
        <p:spPr>
          <a:xfrm flipH="1">
            <a:off x="3428640" y="1741320"/>
            <a:ext cx="2160" cy="61056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5" name="Straight Arrow Connector 7"/>
          <p:cNvCxnSpPr/>
          <p:nvPr/>
        </p:nvCxnSpPr>
        <p:spPr>
          <a:xfrm flipH="1" flipV="1">
            <a:off x="3351960" y="3874320"/>
            <a:ext cx="2520" cy="68652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6" name="TextBox 10"/>
          <p:cNvSpPr/>
          <p:nvPr/>
        </p:nvSpPr>
        <p:spPr>
          <a:xfrm>
            <a:off x="-380880" y="410364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Arial"/>
              </a:rPr>
              <a:t>Non-polarizable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 (direct current flow through ions and electrons across electrode-electrolyte interfac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6248520" y="2209680"/>
            <a:ext cx="2501640" cy="2414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0"/>
          <p:cNvSpPr/>
          <p:nvPr/>
        </p:nvSpPr>
        <p:spPr>
          <a:xfrm>
            <a:off x="6051600" y="1752480"/>
            <a:ext cx="32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.g., PtIr (6mm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surface a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7210800" y="4648320"/>
            <a:ext cx="19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T. Denison, JSSC’07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3:11:39Z</dcterms:created>
  <dc:creator>Naveen Verma</dc:creator>
  <dc:description/>
  <dc:language>en-US</dc:language>
  <cp:lastModifiedBy>nverma</cp:lastModifiedBy>
  <dcterms:modified xsi:type="dcterms:W3CDTF">2011-03-07T13:35:32Z</dcterms:modified>
  <cp:revision>119</cp:revision>
  <dc:subject/>
  <dc:title>Slide 1</dc:title>
</cp:coreProperties>
</file>